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1CD-4169-42F2-9BAF-C5735AF5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853-C640-4527-AF92-A19837E1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868-DE9B-4BF1-B402-E530115C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DFD-0915-48CB-9BE1-A52A37C2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C272-EFE9-41D9-89E6-82239023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4B66-D62D-41CB-A34B-26A1DA89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44C1-FFD8-41F1-8431-188BEA1A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5E52-5A68-41BD-A780-6AF1A1B4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83EA-5D1C-4877-AF1E-2919C8A5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7A2C-3E06-461E-8168-46D80D18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E564-773B-449E-BEF7-89FB750C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3DC-FC2E-4C2F-9A73-7362E2C2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6AFC-47CD-471E-80A9-5F014FC0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4B5E-B7F4-4E15-AEE2-3F8559D4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B017-5C4F-4279-A6E0-43C9BD82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90AC-DB14-48E8-9506-C9152419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AC1A-AEB2-4396-85F9-F0CA46FF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C1D-534C-4B6E-A86C-24ED9282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372-F318-4B5D-90F1-398A2229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71E-7119-4C6E-8E42-5CADFF68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777-85BB-4ACA-924D-16D55C77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856-627F-46AE-8C32-621329D5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6D4-6970-4A33-AE49-0FE2C6AF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DAA-9F87-4361-9706-BAC90F71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FB18-8A8D-4717-8C29-7656D1D6DE90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F523-BC08-4FEA-9128-7F227B668FC5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6%20sicuro%20Test%20autovalutazione.pdf" TargetMode="External"/><Relationship Id="rId4" Type="http://schemas.openxmlformats.org/officeDocument/2006/relationships/hyperlink" Target="file:///Metti%20al%20sicuro%20la%20tua%20scuola%20Microsoft.pdf" TargetMode="External"/><Relationship Id="rId5" Type="http://schemas.openxmlformats.org/officeDocument/2006/relationships/hyperlink" Target="file:///Metti%20al%20sicuro%20la%20tua%20scuola%20Microsoft.pdf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np.it/" TargetMode="External"/><Relationship Id="rId2" Type="http://schemas.openxmlformats.org/officeDocument/2006/relationships/hyperlink" Target="http://www.anp.it/" TargetMode="External"/><Relationship Id="rId3" Type="http://schemas.openxmlformats.org/officeDocument/2006/relationships/hyperlink" Target="http://www.anp.it/" TargetMode="External"/><Relationship Id="rId4" Type="http://schemas.openxmlformats.org/officeDocument/2006/relationships/hyperlink" Target="http://www.apprendereinrete.it/" TargetMode="External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DPR_235_21_11_2007.doc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Patto_educativo_corresponsabilit&#224;.ppt" TargetMode="External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ITI%20L_%20Cobianchi_PUA.mht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Sito_web_istituzionale.ppt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apprendereinrete.it/Risorse_online_per_la_scuola/Sicurezza_On-line/Progetto_Sicurezza_On_Line.kl" TargetMode="External"/><Relationship Id="rId2" Type="http://schemas.openxmlformats.org/officeDocument/2006/relationships/hyperlink" Target="http://www.apprendereinrete.it/Risorse_online_per_la_scuola/Sicurezza_On-line/Progetto_Sicurezza_On_Line.kl" TargetMode="External"/><Relationship Id="rId3" Type="http://schemas.openxmlformats.org/officeDocument/2006/relationships/hyperlink" Target="http://www.apprendereinrete.it/Risorse_online_per_la_scuola/Sicurezza_On-line/Progetto_Sicurezza_On_Line.kl" TargetMode="External"/><Relationship Id="rId4" Type="http://schemas.openxmlformats.org/officeDocument/2006/relationships/hyperlink" Target="http://air.imginternet.it/Temi/Sicurezza/Progetto_Sicurezza_online/Sicurezza_del_computer.kl" TargetMode="External"/><Relationship Id="rId5" Type="http://schemas.openxmlformats.org/officeDocument/2006/relationships/hyperlink" Target="http://air.imginternet.it/Temi/Sicurezza/Progetto_Sicurezza_online/Protezione_dei_dati_personali.kl" TargetMode="External"/><Relationship Id="rId6" Type="http://schemas.openxmlformats.org/officeDocument/2006/relationships/hyperlink" Target="http://air.imginternet.it/Temi/Sicurezza/Progetto_Sicurezza_online/Sicurezza_dei_ragazzi.kl" TargetMode="External"/><Relationship Id="rId7" Type="http://schemas.openxmlformats.org/officeDocument/2006/relationships/hyperlink" Target="http://air.imginternet.it/Temi/Sicurezza/Progetto_Sicurezza_online/Comportamenti_on_line.kl" TargetMode="External"/><Relationship Id="rId8" Type="http://schemas.openxmlformats.org/officeDocument/2006/relationships/hyperlink" Target="http://air.imginternet.it/Temi/Sicurezza/Progetto_Sicurezza_online/Comportamenti_on_line.kl" TargetMode="External"/><Relationship Id="rId9" Type="http://schemas.openxmlformats.org/officeDocument/2006/relationships/image" Target="../media/image1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4-scheda%20tematica-I%20grado.ppt" TargetMode="External"/><Relationship Id="rId2" Type="http://schemas.openxmlformats.org/officeDocument/2006/relationships/hyperlink" Target="file:///4-scheda%20tematica-I%20grado.ppt" TargetMode="External"/><Relationship Id="rId3" Type="http://schemas.openxmlformats.org/officeDocument/2006/relationships/hyperlink" Target="file:///4-scheda%20tematica-I%20grado.ppt" TargetMode="External"/><Relationship Id="rId4" Type="http://schemas.openxmlformats.org/officeDocument/2006/relationships/hyperlink" Target="file:///SITUAZIONI/cyber_vendetta.html" TargetMode="External"/><Relationship Id="rId5" Type="http://schemas.openxmlformats.org/officeDocument/2006/relationships/hyperlink" Target="file:///STRUMENTI/4-approfondimento-I%20grado.doc" TargetMode="External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apprendereinrete.it/Risorse_online_per_la_scuola/Cittadinanza_digitale_e_proprieta_intellettuale/Cittadinanza_digitale_e_proprieta_intellettuale.k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apps.imginternet.com/Contaclick/ContaRedirect.asp?CodLink=6003100126" TargetMode="External"/><Relationship Id="rId5" Type="http://schemas.openxmlformats.org/officeDocument/2006/relationships/hyperlink" Target="http://apps.imginternet.com/Contaclick/ContaRedirect.asp?CodLink=6003100126" TargetMode="External"/><Relationship Id="rId6" Type="http://schemas.openxmlformats.org/officeDocument/2006/relationships/hyperlink" Target="http://apps.imginternet.com/Contaclick/ContaRedirect.asp?CodLink=6003100126" TargetMode="External"/><Relationship Id="rId7" Type="http://schemas.openxmlformats.org/officeDocument/2006/relationships/image" Target="../media/image4.png"/><Relationship Id="rId8" Type="http://schemas.openxmlformats.org/officeDocument/2006/relationships/hyperlink" Target="http://apps.imginternet.com/Contaclick/ContaRedirect.asp?CodLink=6003100127" TargetMode="External"/><Relationship Id="rId9" Type="http://schemas.openxmlformats.org/officeDocument/2006/relationships/hyperlink" Target="http://apps.imginternet.com/Contaclick/ContaRedirect.asp?CodLink=6003100127" TargetMode="External"/><Relationship Id="rId10" Type="http://schemas.openxmlformats.org/officeDocument/2006/relationships/image" Target="../media/image4.png"/><Relationship Id="rId11" Type="http://schemas.openxmlformats.org/officeDocument/2006/relationships/hyperlink" Target="http://apps.imginternet.com/Contaclick/ContaRedirect.asp?CodLink=6003100128" TargetMode="External"/><Relationship Id="rId12" Type="http://schemas.openxmlformats.org/officeDocument/2006/relationships/hyperlink" Target="http://apps.imginternet.com/Contaclick/ContaRedirect.asp?CodLink=6003100128" TargetMode="External"/><Relationship Id="rId13" Type="http://schemas.openxmlformats.org/officeDocument/2006/relationships/hyperlink" Target="http://apps.imginternet.com/Contaclick/ContaRedirect.asp?CodLink=6003100128" TargetMode="External"/><Relationship Id="rId14" Type="http://schemas.openxmlformats.org/officeDocument/2006/relationships/hyperlink" Target="http://apps.imginternet.com/Contaclick/ContaRedirect.asp?CodLink=6003100128" TargetMode="External"/><Relationship Id="rId15" Type="http://schemas.openxmlformats.org/officeDocument/2006/relationships/image" Target="../media/image4.png"/><Relationship Id="rId16" Type="http://schemas.openxmlformats.org/officeDocument/2006/relationships/hyperlink" Target="http://apps.imginternet.com/Contaclick/ContaRedirect.asp?CodLink=6003100129" TargetMode="External"/><Relationship Id="rId17" Type="http://schemas.openxmlformats.org/officeDocument/2006/relationships/hyperlink" Target="http://apps.imginternet.com/Contaclick/ContaRedirect.asp?CodLink=6003100129" TargetMode="External"/><Relationship Id="rId18" Type="http://schemas.openxmlformats.org/officeDocument/2006/relationships/hyperlink" Target="http://apps.imginternet.com/Contaclick/ContaRedirect.asp?CodLink=6003100129" TargetMode="External"/><Relationship Id="rId19" Type="http://schemas.openxmlformats.org/officeDocument/2006/relationships/image" Target="../media/image2.jpe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24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4600" spc="-1" strike="noStrike">
                <a:solidFill>
                  <a:srgbClr val="ff0000"/>
                </a:solidFill>
                <a:latin typeface="Tahoma"/>
              </a:rPr>
              <a:t>Train the trainer”</a:t>
            </a:r>
            <a:br>
              <a:rPr sz="4600"/>
            </a:br>
            <a:endParaRPr b="0" lang="en-US" sz="4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66320" y="2742840"/>
            <a:ext cx="72392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progetto di Anp e Microsoft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la formazione di dirigenti scolastici e di docenti 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curezza infor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so accettabile e consapevole della 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752480" cy="550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81080" y="2438280"/>
            <a:ext cx="647712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rischi che danno luogo 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responsabilità civ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p.es. i danni cagionati a terzi da comportamenti illeciti degli alunni) possono esser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rasferi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diante stipula di un contratto di assicurazione dell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R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ttenzio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li assicurati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evono essere sol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li alunni e l’Amminis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l 1 gennaio 2008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è vieta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sicurare la RCT del personale con la medesima polizza che tutela alunni e Amminis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Gli studenti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ragazzi spesso non si rendono conto della 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pericolosità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gli strumenti tecnologici a disposizione se utilizzati 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senza avere coscienza dei risch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iò porta ad una sorta di libero mercato dell'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informazione inconsapevole e dell'illegalità diffus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cuni dati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6307200"/>
            <a:ext cx="1752480" cy="550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Gli studenti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Dal 9° Rapporto Eurispes – Telefono Azzurro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90,5%     ricerca informazioni di proprio inter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80%        ricerca materiali per lo 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72,5 %    scarica musica, film, giochi  </a:t>
            </a:r>
            <a:r>
              <a:rPr b="0" lang="it-IT" sz="1600" spc="-1" strike="noStrike">
                <a:solidFill>
                  <a:srgbClr val="ff3300"/>
                </a:solidFill>
                <a:latin typeface="Tahoma"/>
              </a:rPr>
              <a:t>27% non lo dice ai geni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51,9%     legge b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63%        chatta e il 50% utilizza la posta elettro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38,9%     utilizza videogiochi in 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1,7        acquista on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69%        va su Youtube   </a:t>
            </a:r>
            <a:r>
              <a:rPr b="0" lang="it-IT" sz="1600" spc="-1" strike="noStrike">
                <a:solidFill>
                  <a:srgbClr val="ff3300"/>
                </a:solidFill>
                <a:latin typeface="Tahoma"/>
              </a:rPr>
              <a:t>5% non sa cosa 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6%         dice di aver mandato foto o video minacciosi o ingiuri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8%         dice di aver diffuso notizie false su alt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9%         dichiara di essere stata vittima di cyber bul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Gli studenti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5800" y="1523880"/>
            <a:ext cx="77724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a una ricerca SWG per conto di MOIGE e Norton Symantec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o il 29%  dei minori viene costantemente seguito durante la connession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Gli studenti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’ quindi quanto mai necessari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un’azione educativ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 insegnanti e genitori perché sol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l’u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apev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i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a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elle tecnologie della società dell’informazio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ibuisce a gettare le basi per la crescita dei livelli di creatività e progettualità delle per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n assenza di una diffusa azione educativa, non devono poi meravigliare i fatti di cron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I docenti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a una ricerca SWG per conto di MOIGE e Norton Symantec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 i docen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2%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chiara di non aver mai frequentato corsi di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%         non ha mai seguito lezioni o corsi dedicati all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curezza sul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Le scuole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 le scuole, gli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mbiti critic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i quali l’impiego delle tecnologie può costituire potenzial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fonte di rischi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o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collegamenti ad Internet, attraverso cui possono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ondersi nella scuola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contenuti inadatti ai min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ddirittura illeg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’uso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consapevo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ppur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corret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lle tecnologie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ll’ambito del quale non si possono escluder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rtamenti illeciti degli alunni o del pers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rattamento dat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lle persone,  che può dar luogo 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 violazione della privacy (D.Lgs. n. 196/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“pirateria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l software, più in generale la violazione del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itto d’autore (L. n. 633/1941 e suc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amo davanti ad una 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“nuova frontiera”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ella sicurezza a scuola in quanto, accanto alle problematiche note legate all’uso delle risorse e dei beni materiali, si delinea il problema di come tutelare 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beni immaterial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privacy, diritto d’autore…) e controllare/limitare le conseguenze degli eventi dannos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azioni di prevenzion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ll’uso delle tecnologie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nno condotte su due versan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1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ducazione alla consapevolezza ed alla leg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1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stema di regole definito e condiviso fra tutti gli interes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a dove parti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Un test di </a:t>
            </a:r>
            <a:r>
              <a:rPr b="0" lang="en-US" sz="3000" spc="-1" strike="noStrike">
                <a:solidFill>
                  <a:srgbClr val="ff3300"/>
                </a:solidFill>
                <a:latin typeface="Tahoma"/>
              </a:rPr>
              <a:t>autovalutazione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4c6d80"/>
                </a:solidFill>
                <a:uFillTx/>
                <a:latin typeface="Tahoma"/>
                <a:hlinkClick r:id="rId3"/>
              </a:rPr>
              <a:t>“6 sicuro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(il test è contenuto nella guida per docenti e alunni, </a:t>
            </a:r>
            <a:r>
              <a:rPr b="0" lang="en-US" sz="3000" spc="-1" strike="noStrike" u="sng">
                <a:solidFill>
                  <a:srgbClr val="4c6d80"/>
                </a:solidFill>
                <a:uFillTx/>
                <a:latin typeface="Tahoma"/>
                <a:hlinkClick r:id="rId4"/>
              </a:rPr>
              <a:t>”Metti al sicuro il tuo istituto scolastico”</a:t>
            </a:r>
            <a:r>
              <a:rPr b="0" lang="en-US" sz="3000" spc="-1" strike="noStrike" u="sng">
                <a:solidFill>
                  <a:srgbClr val="4c6d80"/>
                </a:solidFill>
                <a:uFillTx/>
                <a:latin typeface="Tahoma"/>
                <a:hlinkClick r:id="rId5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Microsoft, 200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olitica d’istituto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l piano regolamentare, è possibile seguire la strada dell’attivazione di un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“politica di istituto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 politica d’istituto dev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efinire le condizion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er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o accettabile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consapevole de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la navigazione in R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i servizi informatici disponibili per gli utenti dell’istituzione scola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24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4600" spc="-1" strike="noStrike">
                <a:solidFill>
                  <a:srgbClr val="ff0000"/>
                </a:solidFill>
                <a:latin typeface="Tahoma"/>
              </a:rPr>
              <a:t>Train the trainer”</a:t>
            </a:r>
            <a:br>
              <a:rPr sz="4600"/>
            </a:br>
            <a:endParaRPr b="0" lang="en-US" sz="4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2361960"/>
            <a:ext cx="7239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progetto di Anp e Microsoft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Questa presentazione e i materiali collegati verranno pubblicati sui s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w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ww.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anp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www.apprendereinrete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57200" y="6248520"/>
            <a:ext cx="1752480" cy="550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81080" y="2438280"/>
            <a:ext cx="647712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Perché una Politica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di Uso Accettabile?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ischi e pericoli della 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ossibili contatti con adulti che vogliono conoscere e avvicinare bambini e ragazzi (adesca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so eccessivo di Internet/Cellulare (dipendenza tecnolog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ideogiochi violenti e diseduca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corrette informazioni su ricerche scolastiche, diet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carico di musica o film coperti da diritti d’autore (emule, bTorr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irus informatici (malware) in grado di infettare computer e cellul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ischio di molestie o maltrattamenti da coetanei (cyber-bullis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dita della reputazione on line (web repu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Perché una Politica di Uso Accettabile?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gazzi potrebbero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non essere sol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ittime potenziali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 potrebbero essere accusati anche di atti illegali qualo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tessero in ess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4596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 comportamento offen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4596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lestie  e denigrazioni ripe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4596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spedizione ripetuta di messaggi insultanti mirati a ferire qualc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4596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ocere agli altri deliberatamente (furto di identità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4596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sere coinvolti in attività illegali (violazione privacy e diritti d’aut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olitica d’istituto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“Politica di Uso Accettabile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PUA) si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nseris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l sistema delle regole che l’istituto si dà autonomamente ed in modo condiviso fra le diverse compon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PU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 esser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esplicitamente richiam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atto educativo di corresponsabilità”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ttoscritto fra la scuola e i genitori degli alun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 avere l’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obiettiv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 accrescere le opportunità di confronto e di assunzione  responsabile di impegni per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migliorare la qualità della vita a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olitica d’istituto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0" lang="en-US" sz="2400" spc="-1" strike="noStrike" u="sng">
                <a:solidFill>
                  <a:srgbClr val="4c6d80"/>
                </a:solidFill>
                <a:uFillTx/>
                <a:latin typeface="Tahoma"/>
                <a:hlinkClick r:id="rId1"/>
              </a:rPr>
              <a:t>D.P.R. n. 235 del 21/11/2007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el modificare il Regolamento dello Statuto delle studentesse e degli studenti (D.P.R. n. 249/98) ha introdotto il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“Patto educativo di corresponsabilit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e atto di impegno congiunto tra scuola e famiglia, da formalizzarsi, sottoscrivendolo all’atto dell’iscri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D.P.R. n. 235 del 21/11/2007 prevede che il  Regolamento d’Istituto disciplini le modalità di adozione e sottoscrizione del Patto, ma vanno chiarite l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ifferenze tra questi due documen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olitica d’istituto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Patto educativo di correspons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o di diritto priv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o a contenuto pedag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Regolamento d’Istit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o di diritto pub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attere unilat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ppresenta l’azione di regolamentazione generale dell’istituzione scola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33520" y="525780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c6d80"/>
                </a:solidFill>
                <a:uFillTx/>
                <a:latin typeface="Tahoma"/>
                <a:hlinkClick r:id="rId3"/>
              </a:rPr>
              <a:t>Qualche scheda di approfondimento sul “Patto educativo di corresponsabilit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olitica d’istituto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Patto è quindi soprattutto un documento di valore etico-deontologico ch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vincol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proprio su questo piano, i principali attori dello scenario educativo pubbl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 alcune condizioni-base  per il conseguimento degli obiettivi formati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U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457200" y="1219320"/>
            <a:ext cx="8457840" cy="4911120"/>
            <a:chOff x="457200" y="1219320"/>
            <a:chExt cx="8457840" cy="4911120"/>
          </a:xfrm>
        </p:grpSpPr>
        <p:cxnSp>
          <p:nvCxnSpPr>
            <p:cNvPr id="196" name="_s55304"/>
            <p:cNvCxnSpPr>
              <a:stCxn id="197" idx="2"/>
              <a:endCxn id="198" idx="3"/>
            </p:cNvCxnSpPr>
            <p:nvPr/>
          </p:nvCxnSpPr>
          <p:spPr>
            <a:xfrm rot="10800000">
              <a:off x="7326720" y="2662920"/>
              <a:ext cx="252720" cy="234180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99" name="_s55305"/>
            <p:cNvCxnSpPr>
              <a:stCxn id="200" idx="2"/>
              <a:endCxn id="198" idx="3"/>
            </p:cNvCxnSpPr>
            <p:nvPr/>
          </p:nvCxnSpPr>
          <p:spPr>
            <a:xfrm rot="10800000">
              <a:off x="7326720" y="2662920"/>
              <a:ext cx="252720" cy="147492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201" name="_s55306"/>
            <p:cNvCxnSpPr>
              <a:stCxn id="202" idx="2"/>
              <a:endCxn id="198" idx="3"/>
            </p:cNvCxnSpPr>
            <p:nvPr/>
          </p:nvCxnSpPr>
          <p:spPr>
            <a:xfrm rot="10800000">
              <a:off x="7326720" y="2662920"/>
              <a:ext cx="252720" cy="60840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203" name="_s55307"/>
            <p:cNvCxnSpPr>
              <a:stCxn id="204" idx="4"/>
              <a:endCxn id="205" idx="3"/>
            </p:cNvCxnSpPr>
            <p:nvPr/>
          </p:nvCxnSpPr>
          <p:spPr>
            <a:xfrm flipV="1">
              <a:off x="5517000" y="2662920"/>
              <a:ext cx="252720" cy="32086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206" name="_s55308"/>
            <p:cNvCxnSpPr>
              <a:stCxn id="207" idx="4"/>
              <a:endCxn id="205" idx="3"/>
            </p:cNvCxnSpPr>
            <p:nvPr/>
          </p:nvCxnSpPr>
          <p:spPr>
            <a:xfrm flipV="1">
              <a:off x="5517000" y="2662920"/>
              <a:ext cx="252720" cy="234180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208" name="_s55309"/>
            <p:cNvCxnSpPr>
              <a:stCxn id="209" idx="4"/>
              <a:endCxn id="205" idx="3"/>
            </p:cNvCxnSpPr>
            <p:nvPr/>
          </p:nvCxnSpPr>
          <p:spPr>
            <a:xfrm flipV="1">
              <a:off x="5517000" y="2662920"/>
              <a:ext cx="252720" cy="147492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210" name="_s55310"/>
            <p:cNvCxnSpPr>
              <a:stCxn id="211" idx="4"/>
              <a:endCxn id="205" idx="3"/>
            </p:cNvCxnSpPr>
            <p:nvPr/>
          </p:nvCxnSpPr>
          <p:spPr>
            <a:xfrm flipV="1">
              <a:off x="5517000" y="2663280"/>
              <a:ext cx="252720" cy="60840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212" name="_s55311"/>
            <p:cNvCxnSpPr>
              <a:stCxn id="198" idx="0"/>
              <a:endCxn id="213" idx="3"/>
            </p:cNvCxnSpPr>
            <p:nvPr/>
          </p:nvCxnSpPr>
          <p:spPr>
            <a:xfrm flipV="1" rot="16200000">
              <a:off x="5654160" y="352440"/>
              <a:ext cx="289440" cy="3177360"/>
            </a:xfrm>
            <a:prstGeom prst="bentConnector3">
              <a:avLst>
                <a:gd name="adj1" fmla="val 39103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214" name="_s55312"/>
            <p:cNvCxnSpPr>
              <a:stCxn id="205" idx="0"/>
              <a:endCxn id="213" idx="3"/>
            </p:cNvCxnSpPr>
            <p:nvPr/>
          </p:nvCxnSpPr>
          <p:spPr>
            <a:xfrm flipV="1" rot="16200000">
              <a:off x="4875840" y="1130760"/>
              <a:ext cx="289440" cy="1620720"/>
            </a:xfrm>
            <a:prstGeom prst="bentConnector3">
              <a:avLst>
                <a:gd name="adj1" fmla="val 39103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215" name="_s55313"/>
            <p:cNvCxnSpPr>
              <a:stCxn id="216" idx="0"/>
              <a:endCxn id="213" idx="3"/>
            </p:cNvCxnSpPr>
            <p:nvPr/>
          </p:nvCxnSpPr>
          <p:spPr>
            <a:xfrm flipV="1" rot="16200000">
              <a:off x="4095720" y="1910880"/>
              <a:ext cx="289440" cy="60840"/>
            </a:xfrm>
            <a:prstGeom prst="bentConnector3">
              <a:avLst>
                <a:gd name="adj1" fmla="val 39103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217" name="_s55314"/>
            <p:cNvCxnSpPr>
              <a:stCxn id="218" idx="0"/>
              <a:endCxn id="213" idx="3"/>
            </p:cNvCxnSpPr>
            <p:nvPr/>
          </p:nvCxnSpPr>
          <p:spPr>
            <a:xfrm flipH="1" flipV="1" rot="5400000">
              <a:off x="3317400" y="1192680"/>
              <a:ext cx="289440" cy="1497240"/>
            </a:xfrm>
            <a:prstGeom prst="bentConnector3">
              <a:avLst>
                <a:gd name="adj1" fmla="val 39103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219" name="_s55315"/>
            <p:cNvCxnSpPr>
              <a:stCxn id="220" idx="0"/>
              <a:endCxn id="213" idx="3"/>
            </p:cNvCxnSpPr>
            <p:nvPr/>
          </p:nvCxnSpPr>
          <p:spPr>
            <a:xfrm flipH="1" flipV="1" rot="5400000">
              <a:off x="2537280" y="412920"/>
              <a:ext cx="289440" cy="3056760"/>
            </a:xfrm>
            <a:prstGeom prst="bentConnector3">
              <a:avLst>
                <a:gd name="adj1" fmla="val 39103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213" name="_s55316"/>
            <p:cNvSpPr/>
            <p:nvPr/>
          </p:nvSpPr>
          <p:spPr>
            <a:xfrm>
              <a:off x="3572280" y="1219320"/>
              <a:ext cx="1335600" cy="577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80808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U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55317"/>
            <p:cNvSpPr/>
            <p:nvPr/>
          </p:nvSpPr>
          <p:spPr>
            <a:xfrm>
              <a:off x="457200" y="2085840"/>
              <a:ext cx="1335600" cy="577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3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 vantaggi di Interne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 scuo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55318"/>
            <p:cNvSpPr/>
            <p:nvPr/>
          </p:nvSpPr>
          <p:spPr>
            <a:xfrm>
              <a:off x="2015280" y="2085840"/>
              <a:ext cx="1335600" cy="577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3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rategie della scuol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r garantir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 sicurezza delle T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55319"/>
            <p:cNvSpPr/>
            <p:nvPr/>
          </p:nvSpPr>
          <p:spPr>
            <a:xfrm>
              <a:off x="3573720" y="2085840"/>
              <a:ext cx="1335600" cy="577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3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rtamen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i rischi e Valutazion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i contenu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55320"/>
            <p:cNvSpPr/>
            <p:nvPr/>
          </p:nvSpPr>
          <p:spPr>
            <a:xfrm>
              <a:off x="5132160" y="2085840"/>
              <a:ext cx="1335600" cy="577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3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rm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nee gui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55321"/>
            <p:cNvSpPr/>
            <p:nvPr/>
          </p:nvSpPr>
          <p:spPr>
            <a:xfrm>
              <a:off x="6690240" y="2085840"/>
              <a:ext cx="1334160" cy="577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3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ormazion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lla PUA della scuo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55322"/>
            <p:cNvSpPr/>
            <p:nvPr/>
          </p:nvSpPr>
          <p:spPr>
            <a:xfrm>
              <a:off x="4242960" y="2952720"/>
              <a:ext cx="1334160" cy="577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4c6d8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rvizi d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sta elettron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55323"/>
            <p:cNvSpPr/>
            <p:nvPr/>
          </p:nvSpPr>
          <p:spPr>
            <a:xfrm>
              <a:off x="4242960" y="3819240"/>
              <a:ext cx="1334160" cy="577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4c6d8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 gestione del si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lla scuo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55324"/>
            <p:cNvSpPr/>
            <p:nvPr/>
          </p:nvSpPr>
          <p:spPr>
            <a:xfrm>
              <a:off x="4242960" y="4686120"/>
              <a:ext cx="1334160" cy="577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4c6d8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Gestionedi gruppi d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discussione e chat 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55325"/>
            <p:cNvSpPr/>
            <p:nvPr/>
          </p:nvSpPr>
          <p:spPr>
            <a:xfrm>
              <a:off x="4242960" y="5552640"/>
              <a:ext cx="1334160" cy="577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4c6d8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tre Tecnologi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 comunica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5326"/>
            <p:cNvSpPr/>
            <p:nvPr/>
          </p:nvSpPr>
          <p:spPr>
            <a:xfrm>
              <a:off x="7579440" y="2952720"/>
              <a:ext cx="1335600" cy="577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4c6d8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udent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55327"/>
            <p:cNvSpPr/>
            <p:nvPr/>
          </p:nvSpPr>
          <p:spPr>
            <a:xfrm>
              <a:off x="7579440" y="3819240"/>
              <a:ext cx="1333800" cy="577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4c6d8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ersonal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colast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55328"/>
            <p:cNvSpPr/>
            <p:nvPr/>
          </p:nvSpPr>
          <p:spPr>
            <a:xfrm>
              <a:off x="7579440" y="4686120"/>
              <a:ext cx="1333800" cy="577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4c6d8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nitori/tutor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U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4c6d80"/>
                </a:solidFill>
                <a:uFillTx/>
                <a:latin typeface="Tahoma"/>
                <a:hlinkClick r:id="rId1"/>
              </a:rPr>
              <a:t>Un esempio di documento di Politica di Uso Accet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dal sito dell’ITIS “Cobianchi” di Verban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U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 vantaggi di Internet a 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 gli insegnanti e per gli studenti l’accesso ad Internet è un privilegio e un diri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Obiettiv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 arricchire ed ampliare le attività didattiche, secondo quanto prevede 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icolo scolastico, l’età e la maturità degli stud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por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 studenti e ad insegnanti l’uso di Internet per promuov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’eccellen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Va dichiarato che la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mit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’accesso ai siti Internet che offrono materiale inadeguato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legale. Gli insegnanti assumono il ruolo di guida per gli studenti 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tività o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U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trategie e regole della scuola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per garantire la sicurezza delle 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l sistema informatico delle TIC della scuola viene regolarmente controllato in    base alle norme di sicurezz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La scuola controlla regolarmente i file utilizzati, i file temporanei e i siti visita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È vietato inserire file sul server o scaricare software non autorizzati da Intern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La connessione a Internet dalla scuola prevede una password e gli studenti devono chiudere il collegamento dopo aver concluso la sessione di lavo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l sistema informatico della scuola è provvisto di un software antivirus aggiornato periodicame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Le informazioni personali inviate via internet sono codific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er utilizzare memorie USB o CD-ROM personali è necessario chiedere un permesso e sottoporli al controllo antivir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Utilità di sistema e file eseguibili non possono essere utilizzati nelle attività degli   studen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 file di proprietà della scuola sono controllati regolarme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1900" spc="-1" strike="noStrike">
                <a:solidFill>
                  <a:srgbClr val="ff0000"/>
                </a:solidFill>
                <a:latin typeface="Tahoma"/>
              </a:rPr>
              <a:t>Train the trainer”: La collaborazione Anp - Microsoft</a:t>
            </a:r>
            <a:endParaRPr b="0" lang="en-US" sz="19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Anp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uove, progetta ed organizza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formazion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sostegn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llo sviluppo profess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inves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assicciamente sulla formazione, coinvolgendo dirigenti e docenti iscritti e non iscr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cerca e valorizza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igliori pratiche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istenti, dovunque esse siano collo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uove la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iffusione delle ICT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a i propri associati e nelle scu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e veicolo fondamentale per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’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nnovazione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 sistema di istruzione e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Microsoft</a:t>
            </a:r>
            <a:r>
              <a:rPr b="1" lang="it-IT" sz="20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omuove azioni e programmi per diffondere le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competenz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e favorire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l’accesso alla società digitale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(Digital Inclus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ttraverso </a:t>
            </a:r>
            <a:r>
              <a:rPr b="0" lang="it-IT" sz="1800" spc="-1" strike="noStrike">
                <a:solidFill>
                  <a:srgbClr val="ff3300"/>
                </a:solidFill>
                <a:latin typeface="Tahoma"/>
              </a:rPr>
              <a:t>collaborazion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con i governi, le istituzioni e le organizzazioni private e pubbliche del settore dell’ist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307200"/>
            <a:ext cx="1905120" cy="55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UA</a:t>
            </a:r>
            <a:r>
              <a:rPr b="0" lang="it-IT" sz="18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ccertamento dei rischi e valutazione dei contenuti di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La scuol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i fa carico di tutte le precauzioni necessarie per              garantire agli studenti l’accesso a materiale appropri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sistema di accesso ad Internet della scuola prevede l’uso di u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lt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 evitare l’accesso a siti web con contenuto pornografico o che, comunque, esula dalla funzione didattica; in particolare il sistema tend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312120"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dire l’accesso a siti non appropri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312120"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tire l’accesso solo ad un numero limitato di siti approvat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flipV="1" rot="10800000">
            <a:off x="2133360" y="54864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UA</a:t>
            </a:r>
            <a:r>
              <a:rPr b="0" lang="it-IT" sz="18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ccertamento dei rischi e valutazione dei contenuti di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La scuol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i fa carico di tutte le precauzioni necessarie per              garantire agli studenti l’accesso a materiale appropriato attraverso azioni qu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re e tracciare i collegamenti di ogni macchin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care e/o consentire l’accesso a risorse in rete attraverso l’uso di parole chiave appropriat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care e/o consentire l’utilizzo di risorse online quali chat, mail e for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flipV="1" rot="10800000">
            <a:off x="2133360" y="54864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U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Norme e linee g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tti gli utenti di Internet sono tenuti al rispetto della legislazione vigente applicata alla comunicazione sulla r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lla scuola il sistema di accesso ad Internet prevede l’uso di un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istema di filtragg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 coordinatore tecnico delle TIC controllerà l'efficacia del sistema di filtragg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scuola riferisce al fornitore dei servizi Internet se è stato trovato materiale illeg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U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istema di filtragg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 la possibilità 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edire l'accesso a siti non appropri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entire l'accesso solo ad un numero limitato di siti approv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ttuare ricerche di pagine o siti web dinamicamente con l'uso di parole chiave in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tilizzare un sistema di valutazione per selezionare il contenuto inadeguato attraverso l'uso di browser che respingono queste pa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are i siti visitati dagli studenti e dagli insegn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U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Norme e linee guida – Fornitori di servizi su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i studenti devono utilizzare durante l'orario scolastico solo  fornitori di servizi e-mail approvati dalla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i studenti devono riferire agli insegnanti se ricevono e-mail off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'accesso dalla scuola all'indirizzo di posta elettronica personale potrà essere impedito se interferisse con le altre attività di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U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i studenti devono leggere le loro e-mail regolarmente e eliminare i messaggi inutili da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i studenti possono inviare messaggi spam solo se, per esempio, fanno parte di un loro progetto di lavoro (è richiesto il permesso dell'insegnant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Gli studenti non devono rivelare dettagli o informazioni personali loro o di altre persone di loro conoscenza, come indirizzi, numeri di telefono od organizzare incontri fuori dalla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U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Norme e linee guida – Gestione del sito web istituzionale della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stisce le pagine del s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Redazione editoriale della scu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vrà garantire che il contenuto sul s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a accurato ed appropri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tiene i diritti d'autore dei documenti che si trovano sul s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La scuol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non pubblicherà materiale prodotto dagli studenti e l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fotografie senza il permesso dei loro geni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Informazion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vono essere relative solo alla scuola: denominazione, indiriz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tale, e-mail, fax e telefoni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(vedi codice amministrazione digit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c6d80"/>
                </a:solidFill>
                <a:uFillTx/>
                <a:latin typeface="Tahoma"/>
                <a:hlinkClick r:id="rId1"/>
              </a:rPr>
              <a:t>Il sito web istituzionale della scuola e il codice dell’amministrazione digit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2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U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Mailing list moderate, gruppi di discussione e chat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100" spc="-1" strike="noStrike">
                <a:solidFill>
                  <a:srgbClr val="ff3300"/>
                </a:solidFill>
                <a:latin typeface="Arial"/>
              </a:rPr>
              <a:t>Gli student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590920" y="2133720"/>
            <a:ext cx="5486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on possono accedere a chat ro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ubbliche o non mod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ossono accedere a chat che abb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tenuti didatt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ossono accedere a gruppi di discussione 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bbiano contenuti ed obiettivi didatt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U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Norme e linee guida – Altre Tecnologie di Comun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’uso del telefonino durante le attività didat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gli student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è vi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’invio di messaggi illeciti o inappropri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vedi direttiva uso cellula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U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formazioni sulla PUA della scuola – GLI STU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ranno informati che l'utilizzo di Internet è monito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verranno date loro delle istruzioni per un u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abile e sicuro di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devono firmare per presa visione il documento sul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                     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PUA, se maggiore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1900" spc="-1" strike="noStrike">
                <a:solidFill>
                  <a:srgbClr val="ff0000"/>
                </a:solidFill>
                <a:latin typeface="Tahoma"/>
              </a:rPr>
              <a:t>Train</a:t>
            </a:r>
            <a:r>
              <a:rPr b="1" i="1" lang="en-US" sz="21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ahoma"/>
              </a:rPr>
              <a:t>the trainer”: Le politiche e gli strumenti per le scuole</a:t>
            </a:r>
            <a:endParaRPr b="0" lang="en-US" sz="19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accomandazione del Parlamento Europe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La competenza digitale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consiste nel saper utilizzare con dimestichezza e spirito critico le tecnologie della società dell’informazione per il lavoro, il tempo libero e la comunicazione. Essa è supportata da </a:t>
            </a: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abilità di base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nelle tecnologie: l’uso del computer per reperire, valutare, conservare, produrre, presentare e scambiare informazioni nonché per comunicare e partecipare a reti collaborative tramite Intern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3941280"/>
            <a:ext cx="83059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E’ in crescita esponenziale il tempo giornaliero ed il numero di persone che accedono alla Rete tanto da configurare l’esercizio di una vera e propria </a:t>
            </a:r>
            <a:r>
              <a:rPr b="1" lang="it-IT" sz="1700" spc="-1" strike="noStrike">
                <a:solidFill>
                  <a:srgbClr val="ff3300"/>
                </a:solidFill>
                <a:latin typeface="Tahoma"/>
              </a:rPr>
              <a:t>“cittadinanza digitale”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(digital citizenship”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Ma, contemporaneamente, si genera il cosiddetto </a:t>
            </a:r>
            <a:r>
              <a:rPr b="1" lang="it-IT" sz="1700" spc="-1" strike="noStrike">
                <a:solidFill>
                  <a:srgbClr val="ff3300"/>
                </a:solidFill>
                <a:latin typeface="Tahoma"/>
              </a:rPr>
              <a:t>“divario digitale”</a:t>
            </a:r>
            <a:r>
              <a:rPr b="0" lang="it-IT" sz="17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(“digital divide”) che si riferisce sostanzialmente alle </a:t>
            </a:r>
            <a:r>
              <a:rPr b="1" lang="it-IT" sz="1700" spc="-1" strike="noStrike">
                <a:solidFill>
                  <a:srgbClr val="ff3300"/>
                </a:solidFill>
                <a:latin typeface="Tahoma"/>
              </a:rPr>
              <a:t>diverse capacità dei singoli di usare in modo efficace le tecnolog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6307200"/>
            <a:ext cx="1752480" cy="550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U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formazioni sulla PUA della scuola – PERSONALE DELLA 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verrà distribuita copia della PUA, che deve ess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                         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ottoscritta per presa vi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rà informato che l'utilizzo di Internet è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monito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 – PU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formazioni sulla PUA della scuola – Genitori/TU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 genitori devono essere informati sulla politica d’uso accettabile e responsabile di Internet nella scuol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’atto dell’iscrizione o all’inizio dell’anno scolastico sarà fatto firmare al genitore/tutore dell’allievo un documento che attesta l’esistenza del regolamento (PUA), la possibilità di consultarlo (sul sito web) e le responsabilità dell’allievo sull’utilizzo delle risorse scolastiche all’interno dei laborator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 scuola, inoltre, deve chiedere ai genitori degli studenti minori di 18 anni di età il 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consenso all’uso di Internet per il loro figlio e per la pubblicazione dei suoi lavori e della sue fotografi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arà fornito loro uno o più recapiti ai quali inoltrare commenti o suggeriment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Mettersi in sicurezza per prevenire – I consigli tecnici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e proteggersi dai rischi di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ostare il laboratorio con i PC intorno alle par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ivare un sistema di controllo o un fi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-3506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 escludere contenuti neg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-3506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 monitorare la navig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25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re sistemi robusti 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passwor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conosciute agli alu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Mettersi in sicurezza per prevenire - I consigli tecnici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525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tallare un buon FIREWALL (muro di fuoco). Esistono firewall hardware e software (Microsoft Centro Sicurezza PC include firewall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525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tallare un buon ANTIVIRUS con funzioni integrate di antispyware/antispam e antikeylo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525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figurare l’aggiornamento automatico di tutte le procedure Microsoft (sistema e applicazio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Mettersi in sicurezza per prevenire - I consigli tecnici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188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on installate software superfluo o di dubbia proveni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188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on aprire gli allegati non attesi, di qualunque tipo, chiunque sia il mit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188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on fidarsi dei LINK a banche o negozi forniti da sconosciuti. Possono essere falsi e portarvi a un sito truffa (phising/pharm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188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on distribuite documenti di word o excel: trasportano virus e contengono vostri dati personali nasc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188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viare in allegato solo files in formato compresso (zip-rar) o in   formato Adobe Pdf protetto da scri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Mettersi in sicurezza per prevenire - I consigli tecnici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r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password comples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 almeno dodici caratteri, con caratteri maiuscoli e minuscoli, con numeri e caratteri spec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tuare alla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“gelosia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i confronti delle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tuare a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custodi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luogo sicuro tutte le password (dotarsi di un software Password Manager che memorizza le password in forma cript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oraggiare lo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cambio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 dati e password fra gli alunni e i doc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Mettersi in sicurezza per prevenire - I consigli tecnici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 ogni docente presente sulla rete occorre creare un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account temporane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er la durata dell’anno scolastico (a fine anno si elimineranno gli account degli insegnanti trasferi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d ogni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accoun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i dovrà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collegare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relativa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password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iservata secondo i canoni di sicurezza previsti (modificata a cadenza almeno semest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files di LO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elle operazioni effettuate nel contesto del sistema informatico memorizzano l’attività eseguita da ciascun account opportunamente configu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Mettersi in sicurezza per prevenire - I consigli tecnici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misura particolarmente consigliabile per le scuole è quella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ettare l’architettura del sistema informatico distribuendo 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sorse informatiche tramit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due reti fisicamente separ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la rete didattic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omputer presenti nei laboratori della scuo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la rete amministrati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omputer destinati a tutte le altre attività: gestione archivi anagrafici, contabilità, ec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Mettersi in sicurezza per prevenire – I rischi per gli alunni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misure relative alla sicurezza sono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essenzial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protezione dei d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sicurezza nelle esplorazioni in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serenità per le famig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lasciamo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ol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 ragazzi a sperimentare le offerte del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chiamo di dialogare, di valutare insieme informazioni proposte, comunic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rimentiamo insieme l’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Mettersi in sicurezza per prevenire - I rischi per gli alunni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chat o negli ambienti online, insegniamo ad accedere con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nickn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n facilmente identifica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egniamo la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gelosia per la privac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 facciamo capire ai ragazzi che è opportuno fornire indirizzo, numero di cellulare, del telefono fisso, ecc. solo agli amici re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egniamo che a volte un dato basta per ricostruir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un’identità comp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1900" spc="-1" strike="noStrike">
                <a:solidFill>
                  <a:srgbClr val="ff0000"/>
                </a:solidFill>
                <a:latin typeface="Tahoma"/>
              </a:rPr>
              <a:t>Train</a:t>
            </a:r>
            <a:r>
              <a:rPr b="1" i="1" lang="en-US" sz="21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ahoma"/>
              </a:rPr>
              <a:t>the trainer”: Le politiche e gli strumenti per le scuole</a:t>
            </a:r>
            <a:br>
              <a:rPr sz="1900"/>
            </a:br>
            <a:endParaRPr b="0" lang="en-US" sz="19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competenza digitale presuppone o sviluppa una serie di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aspetti trasversa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nsiero cri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rea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izi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apacità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sapevole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alutazione del risch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ssunzione del deci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egalità e eticità dei comporta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6307200"/>
            <a:ext cx="1752480" cy="550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Mettersi in sicurezza per prevenire - I rischi per gli alunni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peer to pee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p2p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… è una pratica frequente, ma non è esente da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risch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legal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in quanto si rischia di violare la leg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egati alla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protezione dei minor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in quanto è possibile che i file  scaricati non siano realmente quello che si pen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segniamo ai ragazzi a distinguere ciò che è offerto gratis, da ciò che va pagato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proprietà intellettual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Mettersi in sicurezza per prevenire - I rischi per gli alunni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60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0400" indent="-344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segniamo il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galateo della 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0400" indent="-344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ssere cortesi e rispettare le regole va spesso d’accordo con il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rispetto della privacy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00320" indent="-325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elle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00320" indent="-325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elle 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00320" indent="-325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ei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00320" indent="-325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ei siti intera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00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0400" indent="-344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bullismo esiste ed è contrario al vivere civi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0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Mettersi in sicurezza per prevenire - I rischi per gli alunni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e e-mail sono spesso colme di spazzatura… si tratta del cosiddett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fenomeno dello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sp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phishin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una e-mail che invita a cliccare su siti fraudol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pharming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i induce a scambiare siti finti per siti autent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’ opportuno insegnare ai ragazzi che le poste e le banche n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sano chiedere agli utenti la verifica delle password via e-mai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pportunità per la didattica della sicurezz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sp>
        <p:nvSpPr>
          <p:cNvPr id="332" name="_s1029"/>
          <p:cNvSpPr/>
          <p:nvPr/>
        </p:nvSpPr>
        <p:spPr>
          <a:xfrm>
            <a:off x="704880" y="3213000"/>
            <a:ext cx="1933560" cy="507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mportamenti on l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_s1031"/>
          <p:cNvSpPr/>
          <p:nvPr/>
        </p:nvSpPr>
        <p:spPr>
          <a:xfrm>
            <a:off x="3606840" y="4673520"/>
            <a:ext cx="1933560" cy="507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Sicurezza dei ragazz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_s1033"/>
          <p:cNvSpPr/>
          <p:nvPr/>
        </p:nvSpPr>
        <p:spPr>
          <a:xfrm>
            <a:off x="6507000" y="3213000"/>
            <a:ext cx="1933560" cy="5079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tezione dati personal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_s1035"/>
          <p:cNvSpPr/>
          <p:nvPr/>
        </p:nvSpPr>
        <p:spPr>
          <a:xfrm>
            <a:off x="3606840" y="2057400"/>
            <a:ext cx="1933560" cy="509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Sicurezza del compu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_s1036"/>
          <p:cNvSpPr/>
          <p:nvPr/>
        </p:nvSpPr>
        <p:spPr>
          <a:xfrm>
            <a:off x="3606840" y="3213000"/>
            <a:ext cx="1933560" cy="507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Sicurezz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on l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590560" y="3429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627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495680" y="2590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95680" y="3733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pportunità per la didattica della sicurezz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alla home page di 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Apprendere in ret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registrarsi sul si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ww. apprendereinrete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 accede al </a:t>
            </a:r>
            <a:r>
              <a:rPr b="0" lang="it-IT" sz="2400" spc="-1" strike="noStrike" u="sng">
                <a:solidFill>
                  <a:srgbClr val="4c6d80"/>
                </a:solidFill>
                <a:uFillTx/>
                <a:latin typeface="Tahoma"/>
                <a:hlinkClick r:id="rId1"/>
              </a:rPr>
              <a:t>progetto Sicurezza on </a:t>
            </a:r>
            <a:r>
              <a:rPr b="0" lang="it-IT" sz="2400" spc="-1" strike="noStrike" u="sng">
                <a:solidFill>
                  <a:srgbClr val="4c6d80"/>
                </a:solidFill>
                <a:uFillTx/>
                <a:latin typeface="Tahoma"/>
                <a:hlinkClick r:id="rId2"/>
              </a:rPr>
              <a:t>line</a:t>
            </a:r>
            <a:r>
              <a:rPr b="0" lang="it-IT" sz="2400" spc="-1" strike="noStrike" u="sng">
                <a:solidFill>
                  <a:srgbClr val="4c6d80"/>
                </a:solidFill>
                <a:uFillTx/>
                <a:latin typeface="Tahoma"/>
                <a:hlinkClick r:id="rId3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osto da 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quattro aree tematich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1836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 u="sng">
                <a:solidFill>
                  <a:srgbClr val="4c6d80"/>
                </a:solidFill>
                <a:uFillTx/>
                <a:latin typeface="Tahoma"/>
                <a:hlinkClick r:id="rId4"/>
              </a:rPr>
              <a:t>Sicurezza del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1836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 u="sng">
                <a:solidFill>
                  <a:srgbClr val="4c6d80"/>
                </a:solidFill>
                <a:uFillTx/>
                <a:latin typeface="Tahoma"/>
                <a:hlinkClick r:id="rId5"/>
              </a:rPr>
              <a:t>Protezione dati pers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1836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 u="sng">
                <a:solidFill>
                  <a:srgbClr val="4c6d80"/>
                </a:solidFill>
                <a:uFillTx/>
                <a:latin typeface="Tahoma"/>
                <a:hlinkClick r:id="rId6"/>
              </a:rPr>
              <a:t>Sicurezza dei ragaz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1836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 u="sng">
                <a:solidFill>
                  <a:srgbClr val="4c6d80"/>
                </a:solidFill>
                <a:uFillTx/>
                <a:latin typeface="Tahoma"/>
                <a:hlinkClick r:id="rId7"/>
              </a:rPr>
              <a:t>Comportamenti on </a:t>
            </a:r>
            <a:r>
              <a:rPr b="0" lang="it-IT" sz="2400" spc="-1" strike="noStrike" u="sng">
                <a:solidFill>
                  <a:srgbClr val="4c6d80"/>
                </a:solidFill>
                <a:uFillTx/>
                <a:latin typeface="Tahoma"/>
                <a:hlinkClick r:id="rId8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9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0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pportunità formative per la didattica della sicurezz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gni area tematica contiene 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tre cartelle,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una per ogni grado di scuola, ed in ciascuna cartella 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sono disponibil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1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a guida all’uso dei mater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1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materiali per gli insegnanti (incluse le slides già pronte e modificabili, </a:t>
            </a:r>
            <a:r>
              <a:rPr b="0" lang="it-IT" sz="2400" spc="-1" strike="noStrike" u="sng">
                <a:solidFill>
                  <a:srgbClr val="4c6d80"/>
                </a:solidFill>
                <a:uFillTx/>
                <a:latin typeface="Tahoma"/>
                <a:hlinkClick r:id="rId1"/>
              </a:rPr>
              <a:t>esempio dal modulo “Comportamenti on </a:t>
            </a:r>
            <a:r>
              <a:rPr b="0" lang="it-IT" sz="2400" spc="-1" strike="noStrike" u="sng">
                <a:solidFill>
                  <a:srgbClr val="4c6d80"/>
                </a:solidFill>
                <a:uFillTx/>
                <a:latin typeface="Tahoma"/>
                <a:hlinkClick r:id="rId2"/>
              </a:rPr>
              <a:t>line</a:t>
            </a:r>
            <a:r>
              <a:rPr b="0" lang="it-IT" sz="2400" spc="-1" strike="noStrike" u="sng">
                <a:solidFill>
                  <a:srgbClr val="4c6d80"/>
                </a:solidFill>
                <a:uFillTx/>
                <a:latin typeface="Tahoma"/>
                <a:hlinkClick r:id="rId3"/>
              </a:rPr>
              <a:t>”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1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 schede  per le attività degli studenti (</a:t>
            </a:r>
            <a:r>
              <a:rPr b="0" lang="it-IT" sz="2400" spc="-1" strike="noStrike" u="sng">
                <a:solidFill>
                  <a:srgbClr val="4c6d80"/>
                </a:solidFill>
                <a:uFillTx/>
                <a:latin typeface="Tahoma"/>
                <a:hlinkClick r:id="rId4"/>
              </a:rPr>
              <a:t>incluse simulazioni in situazione, esempi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1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li strumenti per l’approfondimento (</a:t>
            </a:r>
            <a:r>
              <a:rPr b="0" lang="it-IT" sz="2400" spc="-1" strike="noStrike" u="sng">
                <a:solidFill>
                  <a:srgbClr val="4c6d80"/>
                </a:solidFill>
                <a:uFillTx/>
                <a:latin typeface="Tahoma"/>
                <a:hlinkClick r:id="rId5"/>
              </a:rPr>
              <a:t>esempi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7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pportunità formative per la didattica della sicurezz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 prerequisit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ichiest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a dimestichezza nell'uso del browser di naviga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Explor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conoscenza di base delle principali funzionalità di Microso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 la visualizzazione delle situazioni animate contenute nei kit occorr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Flash Player 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 superi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pportunità formative per la didattica della sicurezza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ttadinanza digitale e proprietà intellet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program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 studio </a:t>
            </a:r>
            <a:r>
              <a:rPr b="0" lang="en-US" sz="2400" spc="-1" strike="noStrike" u="sng">
                <a:solidFill>
                  <a:srgbClr val="4c6d80"/>
                </a:solidFill>
                <a:uFillTx/>
                <a:latin typeface="Tahoma"/>
                <a:hlinkClick r:id="rId1"/>
              </a:rPr>
              <a:t>Cittadinanza digitale e proprietà intellettual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è stato pensato per creare consapevolezza sulle problematich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sse ai contenuti creativ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ltre che per incoraggiare una migliore comprensione dei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irit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essi associa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pportunità formative per la didattica della sicurezz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i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obiettivi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e si pone il programma, so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ingere gli studenti a tenere conto del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valore che i contenut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no per chi li ha prodo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nder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rispetto personale per  i diritti creativ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n modo da modificare la percezione e i comportamenti nei confronti dei contenuti digi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ratteristica del programma è l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terdisciplinariet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le unità didattiche contenute (italiano, arte, educazione civica, storia, economia e diritto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pportunità formative per la didattica della sicurezz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80880" y="3556080"/>
            <a:ext cx="8382240" cy="2336040"/>
            <a:chOff x="380880" y="3556080"/>
            <a:chExt cx="8382240" cy="2336040"/>
          </a:xfrm>
        </p:grpSpPr>
        <p:cxnSp>
          <p:nvCxnSpPr>
            <p:cNvPr id="364" name="_s65544"/>
            <p:cNvCxnSpPr>
              <a:stCxn id="365" idx="0"/>
              <a:endCxn id="366" idx="2"/>
            </p:cNvCxnSpPr>
            <p:nvPr/>
          </p:nvCxnSpPr>
          <p:spPr>
            <a:xfrm flipV="1" rot="16200000">
              <a:off x="5986080" y="3001680"/>
              <a:ext cx="432000" cy="3261600"/>
            </a:xfrm>
            <a:prstGeom prst="bentConnector3">
              <a:avLst>
                <a:gd name="adj1" fmla="val 2652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367" name="_s65545"/>
            <p:cNvCxnSpPr>
              <a:stCxn id="368" idx="0"/>
              <a:endCxn id="366" idx="2"/>
            </p:cNvCxnSpPr>
            <p:nvPr/>
          </p:nvCxnSpPr>
          <p:spPr>
            <a:xfrm flipV="1" rot="16200000">
              <a:off x="4899960" y="4088520"/>
              <a:ext cx="432000" cy="1088280"/>
            </a:xfrm>
            <a:prstGeom prst="bentConnector3">
              <a:avLst>
                <a:gd name="adj1" fmla="val 2652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369" name="_s65546"/>
            <p:cNvCxnSpPr>
              <a:stCxn id="370" idx="0"/>
              <a:endCxn id="366" idx="2"/>
            </p:cNvCxnSpPr>
            <p:nvPr/>
          </p:nvCxnSpPr>
          <p:spPr>
            <a:xfrm flipH="1" flipV="1" rot="5400000">
              <a:off x="3812400" y="4089240"/>
              <a:ext cx="432000" cy="1086840"/>
            </a:xfrm>
            <a:prstGeom prst="bentConnector3">
              <a:avLst>
                <a:gd name="adj1" fmla="val 2652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371" name="_s65547"/>
            <p:cNvCxnSpPr>
              <a:stCxn id="372" idx="0"/>
              <a:endCxn id="366" idx="2"/>
            </p:cNvCxnSpPr>
            <p:nvPr/>
          </p:nvCxnSpPr>
          <p:spPr>
            <a:xfrm flipH="1" flipV="1" rot="5400000">
              <a:off x="2725920" y="3002760"/>
              <a:ext cx="432000" cy="3260160"/>
            </a:xfrm>
            <a:prstGeom prst="bentConnector3">
              <a:avLst>
                <a:gd name="adj1" fmla="val 26522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366" name="_s65548"/>
            <p:cNvSpPr/>
            <p:nvPr/>
          </p:nvSpPr>
          <p:spPr>
            <a:xfrm>
              <a:off x="3640320" y="3556080"/>
              <a:ext cx="1864080" cy="861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ff"/>
                  </a:solidFill>
                  <a:latin typeface="Tahoma"/>
                </a:rPr>
                <a:t>Cittadinanza digital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ff"/>
                  </a:solidFill>
                  <a:latin typeface="Tahoma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66ff"/>
                  </a:solidFill>
                  <a:latin typeface="Tahoma"/>
                </a:rPr>
                <a:t> </a:t>
              </a:r>
              <a:r>
                <a:rPr b="1" lang="en-US" sz="1200" spc="-1" strike="noStrike">
                  <a:solidFill>
                    <a:srgbClr val="3366ff"/>
                  </a:solidFill>
                  <a:latin typeface="Tahoma"/>
                </a:rPr>
                <a:t>proprietà intellettu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65549"/>
            <p:cNvSpPr/>
            <p:nvPr/>
          </p:nvSpPr>
          <p:spPr>
            <a:xfrm>
              <a:off x="380880" y="4848840"/>
              <a:ext cx="1862280" cy="1043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66ff"/>
                  </a:solidFill>
                  <a:latin typeface="Verdana"/>
                </a:rPr>
                <a:t>         </a:t>
              </a:r>
              <a:r>
                <a:rPr b="0" lang="en-US" sz="1200" spc="-1" strike="noStrike" u="sng">
                  <a:solidFill>
                    <a:srgbClr val="4c6d80"/>
                  </a:solidFill>
                  <a:uFillTx/>
                  <a:latin typeface="Tahoma"/>
                  <a:hlinkClick r:id="rId4"/>
                </a:rPr>
                <a:t>Unità 1</a:t>
              </a:r>
              <a:r>
                <a:rPr b="0" lang="en-US" sz="1200" spc="-1" strike="noStrike" u="sng">
                  <a:solidFill>
                    <a:srgbClr val="4c6d80"/>
                  </a:solidFill>
                  <a:uFillTx/>
                  <a:latin typeface="Tahoma"/>
                  <a:hlinkClick r:id="rId5"/>
                </a:rPr>
                <a:t>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4c6d80"/>
                  </a:solidFill>
                  <a:uFillTx/>
                  <a:latin typeface="Tahoma"/>
                  <a:hlinkClick r:id="rId6"/>
                </a:rPr>
                <a:t>proprietà intellettuale questa sconosciu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65550"/>
            <p:cNvSpPr/>
            <p:nvPr/>
          </p:nvSpPr>
          <p:spPr>
            <a:xfrm>
              <a:off x="2553840" y="4848840"/>
              <a:ext cx="1862280" cy="10432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4c6d80"/>
                  </a:solidFill>
                  <a:uFillTx/>
                  <a:latin typeface="Tahoma"/>
                  <a:hlinkClick r:id="rId8"/>
                </a:rPr>
                <a:t>Unità 2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4c6d80"/>
                  </a:solidFill>
                  <a:uFillTx/>
                  <a:latin typeface="Tahoma"/>
                  <a:hlinkClick r:id="rId9"/>
                </a:rPr>
                <a:t>   a norma di leg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5551"/>
            <p:cNvSpPr/>
            <p:nvPr/>
          </p:nvSpPr>
          <p:spPr>
            <a:xfrm>
              <a:off x="4727160" y="4848840"/>
              <a:ext cx="1862640" cy="10432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ff0000"/>
                  </a:solidFill>
                  <a:latin typeface="Verdana"/>
                </a:rPr>
                <a:t> 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3366ff"/>
                  </a:solidFill>
                  <a:latin typeface="Verdana"/>
                </a:rPr>
                <a:t>        </a:t>
              </a:r>
              <a:r>
                <a:rPr b="0" lang="it-IT" sz="1200" spc="-1" strike="noStrike" u="sng">
                  <a:solidFill>
                    <a:srgbClr val="4c6d80"/>
                  </a:solidFill>
                  <a:uFillTx/>
                  <a:latin typeface="Tahoma"/>
                  <a:hlinkClick r:id="rId11"/>
                </a:rPr>
                <a:t>Unità 3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4c6d80"/>
                  </a:solidFill>
                  <a:uFillTx/>
                  <a:latin typeface="Tahoma"/>
                  <a:hlinkClick r:id="rId12"/>
                </a:rPr>
                <a:t>   cittadinanza digit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 u="sng">
                  <a:solidFill>
                    <a:srgbClr val="4c6d80"/>
                  </a:solidFill>
                  <a:uFillTx/>
                  <a:latin typeface="Tahoma"/>
                  <a:hlinkClick r:id="rId13"/>
                </a:rPr>
                <a:t>  ..partecipare alla vita collettiva on </a:t>
              </a:r>
              <a:r>
                <a:rPr b="0" lang="it-IT" sz="1200" spc="-1" strike="noStrike" u="sng">
                  <a:solidFill>
                    <a:srgbClr val="4c6d80"/>
                  </a:solidFill>
                  <a:uFillTx/>
                  <a:latin typeface="Tahoma"/>
                  <a:hlinkClick r:id="rId14"/>
                </a:rPr>
                <a:t>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65552"/>
            <p:cNvSpPr/>
            <p:nvPr/>
          </p:nvSpPr>
          <p:spPr>
            <a:xfrm>
              <a:off x="6900480" y="4848840"/>
              <a:ext cx="1862640" cy="104328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66ff"/>
                  </a:solidFill>
                  <a:latin typeface="Verdana"/>
                </a:rPr>
                <a:t>       </a:t>
              </a:r>
              <a:r>
                <a:rPr b="0" lang="en-US" sz="1200" spc="-1" strike="noStrike" u="sng">
                  <a:solidFill>
                    <a:srgbClr val="4c6d80"/>
                  </a:solidFill>
                  <a:uFillTx/>
                  <a:latin typeface="Tahoma"/>
                  <a:hlinkClick r:id="rId16"/>
                </a:rPr>
                <a:t>Unità 4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4c6d80"/>
                  </a:solidFill>
                  <a:uFillTx/>
                  <a:latin typeface="Tahoma"/>
                  <a:hlinkClick r:id="rId17"/>
                </a:rPr>
                <a:t>proteggi le tue creazioni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4c6d80"/>
                  </a:solidFill>
                  <a:uFillTx/>
                  <a:latin typeface="Tahoma"/>
                  <a:hlinkClick r:id="rId18"/>
                </a:rPr>
                <a:t>rispetta quelle altru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85800" y="1676520"/>
            <a:ext cx="762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Le risors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 programma sono articolate in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quattr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unit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gnuna delle quali comprende un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et di piani di studi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sé stanti, ma complementari, incentrati su uno scenario relativo all’argomento dei diritti creativi presentato attraverso un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caso pratic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9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1900" spc="-1" strike="noStrike">
                <a:solidFill>
                  <a:srgbClr val="ff0000"/>
                </a:solidFill>
                <a:latin typeface="Tahoma"/>
              </a:rPr>
              <a:t>Train</a:t>
            </a:r>
            <a:r>
              <a:rPr b="1" i="1" lang="en-US" sz="21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ahoma"/>
              </a:rPr>
              <a:t>the trainer”: Le politiche e gli strumenti per le scuole</a:t>
            </a:r>
            <a:br>
              <a:rPr sz="1900"/>
            </a:br>
            <a:r>
              <a:rPr b="1" i="1" lang="en-US" sz="19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1900" spc="-1" strike="noStrike">
                <a:solidFill>
                  <a:srgbClr val="000000"/>
                </a:solidFill>
                <a:latin typeface="Tahoma"/>
              </a:rPr>
              <a:t>I rischi nell’utilizzo delle ICT nelle scuole</a:t>
            </a: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gni utilizzo di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riso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orta l’assunzione di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ris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rischio è l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probabilit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e si verifichino eventi che producan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ann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e o cose per effetto di un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fon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perico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6307200"/>
            <a:ext cx="1752480" cy="550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Opportunità formative per la didattica della sicurezza</a:t>
            </a:r>
            <a:endParaRPr b="0" lang="en-US" sz="2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ascuna unità prevede quattro/sei di quest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ttivit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una d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 rappresenta la lezione conclusiva dell’unità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cun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domande guid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iutano a impostare gli obiettivi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endimento, mentre l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valutazioni preliminari e fi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ntificano le conoscenze iniziali e misurano i progressi deg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uggeriment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 modifiche e approfondimenti consigliano alcu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odi per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condensare o estende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e attività dell’unità e 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involgere genitori e colleghi di altre clas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1900" spc="-1" strike="noStrike">
                <a:solidFill>
                  <a:srgbClr val="ff0000"/>
                </a:solidFill>
                <a:latin typeface="Tahoma"/>
              </a:rPr>
              <a:t>Train</a:t>
            </a:r>
            <a:r>
              <a:rPr b="1" i="1" lang="en-US" sz="21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ahoma"/>
              </a:rPr>
              <a:t>the trainer”: Le politiche e gli strumenti per le scuole</a:t>
            </a:r>
            <a:br>
              <a:rPr sz="1900"/>
            </a:br>
            <a:r>
              <a:rPr b="1" i="1" lang="en-US" sz="19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1900" spc="-1" strike="noStrike">
                <a:solidFill>
                  <a:srgbClr val="000000"/>
                </a:solidFill>
                <a:latin typeface="Tahoma"/>
              </a:rPr>
              <a:t>I rischi nell’utilizzo delle ICT nelle scuole</a:t>
            </a: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6307200"/>
            <a:ext cx="1752480" cy="550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920" y="1916280"/>
            <a:ext cx="864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gestione dei rischi (risk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rischi vanno</a:t>
            </a:r>
            <a:r>
              <a:rPr b="0" lang="it-IT" sz="24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individuati e gest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ossibilmente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evitati</a:t>
            </a:r>
            <a:r>
              <a:rPr b="0" lang="it-IT" sz="2400" spc="-1" strike="noStrike">
                <a:solidFill>
                  <a:srgbClr val="b2b2b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it-IT" sz="24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trasferiti a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rze parti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(assicuraz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anto meno, vanno</a:t>
            </a:r>
            <a:r>
              <a:rPr b="0" lang="it-IT" sz="24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ridotti i loro effetti neg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1900" spc="-1" strike="noStrike">
                <a:solidFill>
                  <a:srgbClr val="ff0000"/>
                </a:solidFill>
                <a:latin typeface="Tahoma"/>
              </a:rPr>
              <a:t>Train</a:t>
            </a:r>
            <a:r>
              <a:rPr b="1" i="1" lang="en-US" sz="21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ahoma"/>
              </a:rPr>
              <a:t>the trainer”: Le politiche e gli strumenti per le scuole</a:t>
            </a:r>
            <a:br>
              <a:rPr sz="1900"/>
            </a:br>
            <a:r>
              <a:rPr b="1" i="1" lang="en-US" sz="19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1900" spc="-1" strike="noStrike">
                <a:solidFill>
                  <a:srgbClr val="000000"/>
                </a:solidFill>
                <a:latin typeface="Tahoma"/>
              </a:rPr>
              <a:t>I rischi nell’utilizzo delle ICT nelle scuole</a:t>
            </a: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6307200"/>
            <a:ext cx="1752480" cy="550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05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percezione del rischio e la consapevol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amente a quanto avviene nella realtà materiale, nel mondo delle ICT è possibile imbattersi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prodotti e contenuti illeciti o dann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percezion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 pericolo, p.es. durante la navigazione in Internet, è però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iversa da quella del mondo re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tanto si rende indispensabil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mprendere alcune caratteristiche tecniche degli strumen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 fine di renderne più sicuro l'utilizzo, per gli adulti e, a maggior ragione, per i min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Train the trainer”: Le politiche e gli strumenti per le scuole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 rischi nell’utilizzo delle ICT nelle scuole</a:t>
            </a: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6307200"/>
            <a:ext cx="1752480" cy="550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058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aso di evento dann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 h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responsabilit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ll’amministrazione scolastica e del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medesim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even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ò dare origine 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più forme di responsabilit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che si sovrappong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14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14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minis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14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v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14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14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iplin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1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14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9:33:53Z</dcterms:created>
  <dc:creator>fioravanti</dc:creator>
  <dc:description/>
  <dc:language>en-US</dc:language>
  <cp:lastModifiedBy>ff</cp:lastModifiedBy>
  <dcterms:modified xsi:type="dcterms:W3CDTF">2010-05-20T04:54:04Z</dcterms:modified>
  <cp:revision>152</cp:revision>
  <dc:subject/>
  <dc:title>“Train the trainer” </dc:title>
</cp:coreProperties>
</file>