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EFD-5835-4C4D-A98C-25A88054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C2-0742-443D-BE43-696881A5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3D8-A1BB-4CDC-8B8E-82FBF4A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DAF-700A-40C4-A90B-BF62BDDB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5D78-B144-4782-8FFE-C35CD55F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D46-EC06-41D4-B3D3-45AC0BC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73FF-9F65-46FA-AD36-797F050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8C7-A36F-4408-9183-9A0009D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5B0-286F-48B7-8382-7310706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AD27-4101-4317-9003-7BC8149E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EB62-8123-4D39-849C-BF748B4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72A-C13E-44EE-AD61-BF47C59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70A-F29D-40A3-90FF-149C25A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738-07A1-498D-874F-385C78E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4F8-A736-4852-8A7D-86474FD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7FC5-9406-4A26-A179-AD412821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0888-DA78-4EF4-A51A-0171A9F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D75-2DBB-4736-A262-A97387F3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39B-05B2-42B6-824B-3C8CEBC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0C0-D8E4-4FB8-A7BA-400C7C5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1C2-23AC-4EAE-AD5A-C7E1B961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0E4-51D0-4A01-83B1-0A0DFCE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29E-7222-45E3-8C30-447A3EA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C49-3EFF-4E02-B89B-2947320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901-DC45-4CDA-BB84-21496BCA3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530-A270-407E-A9DA-272F0C098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6%20sicuro%20Test%20autovalutazione.pdf" TargetMode="External"/><Relationship Id="rId2" Type="http://schemas.openxmlformats.org/officeDocument/2006/relationships/hyperlink" Target="file:///6%20sicuro%20Test%20autovalutazione.pdf" TargetMode="External"/><Relationship Id="rId3" Type="http://schemas.openxmlformats.org/officeDocument/2006/relationships/hyperlink" Target="file:///Metti%20al%20sicuro%20la%20tua%20scuola%20Microsoft.pdf" TargetMode="External"/><Relationship Id="rId4" Type="http://schemas.openxmlformats.org/officeDocument/2006/relationships/hyperlink" Target="file:///Metti%20al%20sicuro%20la%20tua%20scuola%20Microsoft.pdf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%20ragazzi%20su%20Internet%20Eurispes%20Tel%20Azzurro%202007.pdf" TargetMode="External"/><Relationship Id="rId2" Type="http://schemas.openxmlformats.org/officeDocument/2006/relationships/hyperlink" Target="file:///I%20ragazzi%20su%20Internet%20Eurispes%20Tel%20Azzurro%202007.pdf" TargetMode="External"/><Relationship Id="rId3" Type="http://schemas.openxmlformats.org/officeDocument/2006/relationships/hyperlink" Target="file:///I%20ragazzi%20su%20Internet%20Eurispes%20Tel%20Azzurro%202007.pdf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leck-McQueen.mht" TargetMode="External"/><Relationship Id="rId2" Type="http://schemas.openxmlformats.org/officeDocument/2006/relationships/hyperlink" Target="file:///Fleck-McQueen.mht" TargetMode="External"/><Relationship Id="rId3" Type="http://schemas.openxmlformats.org/officeDocument/2006/relationships/hyperlink" Target="file:///Fleck-McQueen.mht" TargetMode="External"/><Relationship Id="rId4" Type="http://schemas.openxmlformats.org/officeDocument/2006/relationships/hyperlink" Target="file:///Fleck-McQueen.mht" TargetMode="External"/><Relationship Id="rId5" Type="http://schemas.openxmlformats.org/officeDocument/2006/relationships/hyperlink" Target="file:///Fleck-McQueen.mht" TargetMode="External"/><Relationship Id="rId6" Type="http://schemas.openxmlformats.org/officeDocument/2006/relationships/hyperlink" Target="file:///Fleck-McQueen.mht" TargetMode="External"/><Relationship Id="rId7" Type="http://schemas.openxmlformats.org/officeDocument/2006/relationships/hyperlink" Target="file:///Fleck-McQueen.mht" TargetMode="External"/><Relationship Id="rId8" Type="http://schemas.openxmlformats.org/officeDocument/2006/relationships/hyperlink" Target="file:///Fleck-McQueen.mht" TargetMode="External"/><Relationship Id="rId9" Type="http://schemas.openxmlformats.org/officeDocument/2006/relationships/hyperlink" Target="file:///Fleck-McQueen.mht" TargetMode="External"/><Relationship Id="rId10" Type="http://schemas.openxmlformats.org/officeDocument/2006/relationships/hyperlink" Target="file:///Fleck-McQueen.mht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Regolamento%20e%20regolamenti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TI%20L_%20Cobianchi_PUA.mht" TargetMode="External"/><Relationship Id="rId2" Type="http://schemas.openxmlformats.org/officeDocument/2006/relationships/hyperlink" Target="file:///ITI%20L_%20Cobianchi_PUA.mht" TargetMode="External"/><Relationship Id="rId3" Type="http://schemas.openxmlformats.org/officeDocument/2006/relationships/hyperlink" Target="file:///ITI%20L_%20Cobianchi_PUA.mht" TargetMode="External"/><Relationship Id="rId4" Type="http://schemas.openxmlformats.org/officeDocument/2006/relationships/hyperlink" Target="file:///ITI%20L_%20Cobianchi_PUA.mht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ullit&#224;%20contrato%20assicurazione%20RC%20per%20dirigenti.pdf" TargetMode="External"/><Relationship Id="rId2" Type="http://schemas.openxmlformats.org/officeDocument/2006/relationships/hyperlink" Target="file:///Nullit&#224;%20contrato%20assicurazione%20RC%20per%20dirigenti.pdf" TargetMode="External"/><Relationship Id="rId3" Type="http://schemas.openxmlformats.org/officeDocument/2006/relationships/hyperlink" Target="file:///Nullit&#224;%20contrato%20assicurazione%20RC%20per%20dirigenti.pdf" TargetMode="External"/><Relationship Id="rId4" Type="http://schemas.openxmlformats.org/officeDocument/2006/relationships/hyperlink" Target="file:///Nullit&#224;%20contrato%20assicurazione%20RC%20per%20dirigenti.pdf" TargetMode="External"/><Relationship Id="rId5" Type="http://schemas.openxmlformats.org/officeDocument/2006/relationships/hyperlink" Target="file:///Nullit&#224;%20contrato%20assicurazione%20RC%20per%20dirigenti.pdf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341360"/>
            <a:ext cx="88534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Sicurezza informatica - uso accettabile e consapevole della rete</a:t>
            </a: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Le politiche e gli strumenti per le scu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Un test di autovalutazion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6 Sicuro?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il test è contenuto nella guida per docenti e alunn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“Metti al sicuro il tuo Istituto Scolastico”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, Microsoft, 200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F16-941E-47DA-A474-E60BD1AF508A}" type="slidenum">
              <a:t>10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Nelle scuole si rende quanto mai necessaria la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consapevolezza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dei potenziali risch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da parte degli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alunni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(ma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non solo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apporto </a:t>
            </a:r>
            <a:r>
              <a:rPr b="0" lang="it-IT" sz="3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urispes-Telefono</a:t>
            </a:r>
            <a:r>
              <a:rPr b="0" lang="it-IT" sz="3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azzurro (200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27F-F7AA-4CBF-B450-D671041F57BD}" type="slidenum">
              <a:t>11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In assenza di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un’azione educativa specifica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, non meravigliano i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atti di crona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ecessaria una campagna di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ducazione alla legalità nell’uso delle I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895-6BEA-4366-BDB8-FF51CDCC0564}" type="slidenum">
              <a:t>12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Adottare una politica di istituto (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olicy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) che definisca le rego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ndiv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’uso accettabile e consapevole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te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di istituto e de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ervizi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su di essa atti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UA (Politica di Uso Accettabi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(vedi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“Internet access,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usage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and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policies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in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colleges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 and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universities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”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di R.A. Fleck, T. McQueen - University of Illinois, Chicago, 199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CD8-CCC2-4E96-B78F-998BFCDD1E37}" type="slidenum">
              <a:t>13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 concetti-chiav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form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involg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sponsabilizzare (e corresponsabilizza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even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ntroll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514520" indent="-53352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nzion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D77-B66A-46E3-A665-12499A0D537C}" type="slidenum">
              <a:t>1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a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“Politica di Uso Accettabile” (PUA)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si inserisce nel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sistema delle regole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che l’istituto si dà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utonomamente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ed in modo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condivis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ra le diverse componenti, attravers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arta dei serviz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O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regolamento di istitut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regolamenti aule speciali e laborator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regolamento di discipli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atto di corresponsabilità con le famigl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(si veda la presentazione “Regolamento e Regolamenti”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D0E-853B-4902-B9EA-10C6100C59F1}" type="slidenum">
              <a:t>15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 definizione dell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Politica di uso accettabile”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spetta a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rigent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er questo compito, si avvarrà de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sonale docente e ATA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a cui sono stati assegnat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ti specifici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lativi all'infrastruttura tecnologica d'Istit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56C-EB9C-4AB6-8AE8-38791FB20B64}" type="slidenum">
              <a:t>16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 definizione dell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Politica di uso accettabile”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spetta a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rigent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er questo compito, si avvarrà de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sonale docente e ATA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a cui sono stati assegnat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ti specifici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lativi all'infrastruttura tecnologica d'Istit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ventualmente costituiti in “Commissione per la sicurezza informat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FD4-D2E1-4CCD-BD16-3CA6203957B7}" type="slidenum">
              <a:t>17</a:t>
            </a:fld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Alcuni elementi fondamentali della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“Politica di uso accettabile”</a:t>
            </a: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onte: PUA dell’Istituto “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obianchi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” di Verbania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Intra</a:t>
            </a: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 strategie attuate dalla scuola per garantire la sicurezza delle 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ertamento dei rischi e valutazione dei contenuti di Intern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tilizzo dei servizi Intern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1D0-DDAF-437B-B51C-F4C8603E6F28}" type="slidenum">
              <a:t>1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Alcuni elementi fondamentali della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“Politica di uso accettabile”</a:t>
            </a: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(fonte: PUA dell’Istituto “Cobianchi” di Verbania Intr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 linee guida per il comportamento di alunni e insegna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formazione al personale, agli alunni ed ai genitor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tilizzo dei laborato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F7D-5F84-4FE2-9563-00E09523AC5E}" type="slidenum">
              <a:t>19</a:t>
            </a:fld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29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916280"/>
            <a:ext cx="864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Ogni utilizzo di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risorse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comporta l’assunzione di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ris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l rischio è la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babilità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che si verifichino eventi che producano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nni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 persone o cose per effetto di una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onte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(perico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DB5-3AFB-4780-BB16-1D1AF9703CE6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 policy di istitut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 PUA v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sa not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i genitori, agli alunni, al persona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’ consigliabile acquisi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chiarazion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i presa visione e di consenso da parte di genitori e alunni (si vedano i facsimile all’interno della pubblicazione “Un ragno per amico”, USR Piemo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ppare opportuno inserire richiami espliciti alla PUA all’interno del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tto di Corresponsabi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087-16CD-4F6D-84A3-5F6407BA4C46}" type="slidenum">
              <a:t>20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rumenti e informazioni per un uso sicur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1989000"/>
            <a:ext cx="86421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989000"/>
            <a:ext cx="86421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Materiali per la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ormazione dei docenti e materiali didattici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nel Progetto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icurezza Online (sul sito www.apprendereinrete.it di Microsof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Navigazione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icura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per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 più piccoli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: “Il Veliero” browser per bambini e famig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Sull’utilizzo pratico de “Il veliero” in 11 scuole piemontesi è disponibile la pubblicazione “Un vascello per navigare SICUR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9DE-2DE7-4F1C-A7A3-7C8CF532A8DC}" type="slidenum">
              <a:t>21</a:t>
            </a:fld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’utilizzo delle ICT nelle scuole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rumenti e informazioni per un uso sicur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4000" y="1989000"/>
            <a:ext cx="86421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844640"/>
            <a:ext cx="8642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Siti web dedic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cc"/>
                </a:solidFill>
                <a:latin typeface="Tahoma"/>
              </a:rPr>
              <a:t>EASY: educazione prevenzione, protezione.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Un progetto di Commissione Europea, Adiconsum e Save th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cc"/>
                </a:solidFill>
                <a:latin typeface="Tahoma"/>
              </a:rPr>
              <a:t>Safer Internet Programme (Commissione Europea).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Viene organizzato annualmente un Safer Internet Day, con un concorso a livello europeo al quale possono partecipare i raga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0000"/>
                </a:solidFill>
                <a:latin typeface="Tahoma"/>
              </a:rPr>
              <a:t>Sitografia</a:t>
            </a:r>
            <a:r>
              <a:rPr b="0" lang="it-IT" sz="3400" spc="-1" strike="noStrike">
                <a:solidFill>
                  <a:srgbClr val="3333cc"/>
                </a:solidFill>
                <a:latin typeface="Tahoma"/>
              </a:rPr>
              <a:t> utile sul sito “Ti sei connesso”, del Ministero delle Comunicazion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A4E-600A-464D-8C1D-187754F4B771}" type="slidenum">
              <a:t>22</a:t>
            </a:fld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29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916280"/>
            <a:ext cx="864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La gestione dei rischi (risk manag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i rischi vanno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individuati e gest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possibilmente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evitati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o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trasferiti a 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terze parti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 (assicurazi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quanto meno, vanno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ridotti i loro effetti nega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0D3-2A14-4EA1-913B-E7D92CF9B242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134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Gli ambit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critici</a:t>
            </a: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, potenziali fonti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rischi</a:t>
            </a:r>
            <a:r>
              <a:rPr b="0" lang="it-IT" sz="32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i contenuti diffusi attraverso internet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nadatti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ai minori o addirittur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llegali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(pornografia, violenza, razzismo, pedopornografia, cyber bullismo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l’us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nconsapevole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oppu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corrett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delle I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la tutela 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rivacy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(protezione dei dati personal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“pirateria”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del software e la violazione de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iritti d’au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7B2-E044-43DF-926C-17C4D4DFB658}" type="slidenum">
              <a:t>4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058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caso di even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nno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 h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sponsabilit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ell’amministrazione scolastica e del personale (soprattutto dirigenti e docent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l medesim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vent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uò dare origine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iù forme di responsabilit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che si sovrappongon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-522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-522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 illecito amminist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-522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iv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-522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mministrativa e conta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-522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ciplin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48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AF8-A569-4750-A4C3-1928E1242AAA}" type="slidenum">
              <a:t>5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058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I rischi che danno luogo a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responsabilità civile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 (p.es. i danni cagionati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 terzi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 da comportamenti illeciti degli alunni) possono essere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rasferiti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mediante stipula di un contratto di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ssicurazione della R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1ED-C002-4104-81F8-6116F914EF7A}" type="slidenum">
              <a:t>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058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L’assicurazione della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RCT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tipulata dalle scu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Attenzione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: gli assicurati sono gli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lunni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e l’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mministr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al 1 gennaio 2008 è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vietato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assicurare la RCT di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dirigenti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e DSGA con la medesima polizza che tutela alunni e Amministr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B12-DFD0-4C73-888C-20519938AAB8}" type="slidenum">
              <a:t>7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05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 percezione del rischio e la consapevolez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nalogamente a quanto avviene nella realtà materiale,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nel mondo delle ICT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è possibile imbattersi prodotti e contenuti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illeciti o dannos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a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percezione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el pericolo, p.es. durante la navigazione in Internet, è però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</a:rPr>
              <a:t>diversa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da quella del mondo rea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ertanto si rende indispensabile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comprendere alcune caratteristiche tecniche dello strument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al fine di renderne più sicuro l'utilizzo, per gli adulti e, a maggior ragione, per i minor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497-9D4A-4F85-8E9C-BE5068ADE611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rischi nell’utilizzo delle IC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lle scuole </a:t>
            </a:r>
            <a:br>
              <a:rPr sz="33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 ragazzi spesso non si rendono conto dell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icolosità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degli strumenti tecnologici a disposizione, se utilizzati senz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vere coscienza dei risch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iò porta ad una sorta di libero mercat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l'informazione inconsapevole e dell'illegalità diffus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229440" y="6454800"/>
            <a:ext cx="215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rzo-April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602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Microsoft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349-BFC3-4903-9117-09DFDE02019E}" type="slidenum">
              <a:t>9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2:37:40Z</dcterms:created>
  <dc:creator>petrolino</dc:creator>
  <dc:description/>
  <dc:language>en-US</dc:language>
  <cp:lastModifiedBy>anp</cp:lastModifiedBy>
  <dcterms:modified xsi:type="dcterms:W3CDTF">2009-03-09T07:57:29Z</dcterms:modified>
  <cp:revision>379</cp:revision>
  <dc:subject/>
  <dc:title>Il profilo professionale del dirigente della scuola</dc:title>
</cp:coreProperties>
</file>