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DB7-5ACD-4B13-8BAF-BC4A3ECE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E93-E3CB-4C01-B2F1-0DA6BF76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301-113E-4F06-AE5D-1BF310F7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866-21AA-410F-B4E0-03F191EA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51E9-8DEA-4083-8832-9D997F2B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859-1A32-41DB-9401-A7A63080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30F1-DE0F-4FCD-9D68-D15D863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2CD1-E55B-4320-B6A3-5FD8511A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581-50E3-410E-903B-4A6B6E39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AE6-8C91-479E-8CDF-0B9D4226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EF83-A7B7-4FBA-B649-CA9C9A5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F05-ECAE-4133-B0FF-AB03AE8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3D9D-7AE6-413B-89BA-3C9CC30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3142-8CEB-4033-B739-41FA6FA9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BC13-F3B1-440B-A5A9-24AC135A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7100-3CEF-479B-9809-12752DC8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523-8BE6-4F57-B62C-6C2EA0D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AB6-FAA0-4210-A4B7-C92D34A4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FE0-D706-4090-882A-B5AF2A19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3D5-C4DA-429A-97C9-59AB547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BA1-2CC8-42E1-9CDB-35EABE6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C20-A63E-42C2-BD52-5E236A32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1AB-6C28-4771-9C9A-CEF06F3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230-2AF3-4245-A463-DA22808F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5E2-F303-4EA0-8CEE-E792FE58BD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483-D5CE-4A25-8458-67423ADD77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pa.gov.it/site/it-IT/" TargetMode="External"/><Relationship Id="rId3" Type="http://schemas.openxmlformats.org/officeDocument/2006/relationships/hyperlink" Target="http://www.cnipa.gov.it/site/it-IT/" TargetMode="External"/><Relationship Id="rId4" Type="http://schemas.openxmlformats.org/officeDocument/2006/relationships/hyperlink" Target="http://www.cnipa.gov.it/site/it-IT/" TargetMode="External"/><Relationship Id="rId5" Type="http://schemas.openxmlformats.org/officeDocument/2006/relationships/hyperlink" Target="http://www.cnipa.gov.it/site/it-IT/Attivit&#224;/Servizi_per_la_Pubblica_Amministrazione/Dominio_gov.it/" TargetMode="External"/><Relationship Id="rId6" Type="http://schemas.openxmlformats.org/officeDocument/2006/relationships/hyperlink" Target="http://www.cnipa.gov.it/site/it-IT/Attivit&#224;/Servizi_per_la_Pubblica_Amministrazione/Dominio_gov.it/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1557360"/>
            <a:ext cx="8064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Il sito istitu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Il “Codice dell’Amministrazione Digitale” (D.Lgs. n. 82/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pone a </a:t>
            </a: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tutte le </a:t>
            </a:r>
            <a:r>
              <a:rPr b="1" i="1" lang="it-IT" sz="2800" spc="-1" strike="noStrike">
                <a:solidFill>
                  <a:srgbClr val="cc0000"/>
                </a:solidFill>
                <a:latin typeface="Verdana"/>
              </a:rPr>
              <a:t>“pubbliche amministrazioni centrali”</a:t>
            </a: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 l’obbligo di realizzare ciascuna un proprio sito web, dotato di adeguate caratteristiche di accessibilità (art. 53 del D.Lgs n. 82/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Il sito web istitu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FA5-20F5-4457-8CC3-C993AB2616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1628640"/>
            <a:ext cx="8064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Il sito istitu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Il “Codice dell’Amministrazione Digitale” (D.Lgs. n. 82/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le </a:t>
            </a: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“pubbliche amministrazioni centrali”</a:t>
            </a: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 sono </a:t>
            </a:r>
            <a:r>
              <a:rPr b="0" i="1" lang="it-IT" sz="2800" spc="-1" strike="noStrike">
                <a:solidFill>
                  <a:srgbClr val="cc0000"/>
                </a:solidFill>
                <a:latin typeface="Verdana"/>
              </a:rPr>
              <a:t>“…le amministrazioni dello Stato, </a:t>
            </a:r>
            <a:r>
              <a:rPr b="1" i="1" lang="it-IT" sz="2800" spc="-1" strike="noStrike">
                <a:solidFill>
                  <a:srgbClr val="cc0000"/>
                </a:solidFill>
                <a:latin typeface="Verdana"/>
              </a:rPr>
              <a:t>ivi compresi gli istituti  e  scuole di ogni ordine e grado  e  le  istituzioni educative</a:t>
            </a:r>
            <a:r>
              <a:rPr b="0" i="1" lang="it-IT" sz="2800" spc="-1" strike="noStrike">
                <a:solidFill>
                  <a:srgbClr val="cc0000"/>
                </a:solidFill>
                <a:latin typeface="Verdana"/>
              </a:rPr>
              <a:t>,…”</a:t>
            </a: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 (art. 1, comma 1, lett. z), D.lgs. n. 85/2009).</a:t>
            </a: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Il sito web istitu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1B5-20D7-40AB-A5B5-257D12C088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557360"/>
            <a:ext cx="8064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Verdana"/>
              </a:rPr>
              <a:t>Come si realizza un sito web istituzion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Si veda il sito del CNIPA </a:t>
            </a:r>
            <a:r>
              <a:rPr b="0" lang="it-IT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nipa.gov.it/site/</a:t>
            </a:r>
            <a:r>
              <a:rPr b="0" lang="it-IT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t-IT</a:t>
            </a:r>
            <a:r>
              <a:rPr b="0" lang="it-IT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(cliccare sulla notizia del 23/12/2009 </a:t>
            </a:r>
            <a:r>
              <a:rPr b="0" lang="it-IT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“Siti PA: come registrarsi nel dominio .</a:t>
            </a:r>
            <a:r>
              <a:rPr b="0" lang="it-IT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gov.it</a:t>
            </a:r>
            <a:r>
              <a:rPr b="0" lang="it-IT" sz="2800" spc="-1" strike="noStrike">
                <a:solidFill>
                  <a:srgbClr val="cc0000"/>
                </a:solidFill>
                <a:latin typeface="Verdana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Il sito web istitu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457200" y="6248520"/>
            <a:ext cx="1598760" cy="550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76116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923-C37E-4323-80FE-FF2E7961DA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4:55:42Z</dcterms:created>
  <dc:creator>anp</dc:creator>
  <dc:description/>
  <dc:language>en-US</dc:language>
  <cp:lastModifiedBy>ff</cp:lastModifiedBy>
  <dcterms:modified xsi:type="dcterms:W3CDTF">2010-05-14T04:25:53Z</dcterms:modified>
  <cp:revision>194</cp:revision>
  <dc:subject/>
  <dc:title>Diapositiva 1</dc:title>
</cp:coreProperties>
</file>