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461-505C-40D8-A714-CBB8D7AA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154-FB56-4212-8F6F-F1962DF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811-185D-477C-A8A5-28F9BA25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A8F-199B-464F-82B5-031B77F0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588-F7C5-4B52-AB25-80E90C5D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A171-FD3B-4EEF-B2C1-28E2B336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C036-784D-485A-A856-7F1CF39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5105-FF40-4B88-9D9E-302AB478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F956-34F9-42E2-9865-FA238D9E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C013-CC41-4CB2-9925-D5DB82E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C522-3637-410B-B961-14A51E5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D21-8298-4E53-9059-E5C72F21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5A8-B98A-4059-9815-A0F2D040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B856-700A-4C88-A52A-B623EB6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2C3-5173-4E39-8786-3A597057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D7C-8649-417E-89ED-53EAABD7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3A4-C959-4228-A1AD-3E563123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68A-5DC0-435C-A46D-56B23713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3F9-A04F-43B7-9FFC-83D1C43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5C2-8368-4B01-8C0E-0FC728D3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DBA-C0B4-48D6-945F-D288B95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DBE-494D-4FCA-A4E1-B7C0719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763-6363-43D7-9615-2A33170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C10-3964-4353-AC6E-993E84C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1E3-D0E3-4AF5-AE88-E171723BFCB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3CFB-5429-48B3-8096-8EACA3E4923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tto educativo di corresponsabilit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DPR 21 novembre 2007, n. 235 “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Regolamento recante modifiche ed integrazioni al decreto del Presidente della Repubblica 24 giugno 1998, n. 249, concernente lo statuto delle studentesse e degli studenti della scuola secondaria”, integrato d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Nota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del 31 luglio 2008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su D.P.R. n. 235 del 21 novembre 2007 -  Integrazione e miglioramento dello Statuto delle Studentesse e degli Studenti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1.Contestualmente all'iscrizione alla singola istituzione scolastica, è richiesta la sottoscrizione da parte dei genitori e degli studenti di un Patto educativo di corresponsabilità, finalizzato a definire in maniera dettagliata e condivisa diritti e doveri nel rapporto tra istituzione scolastica autonoma, studenti e famigli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2. I singoli regolamenti di istituto disciplinano le procedure di sottoscrizione nonché di elaborazione e revisione condivisa del patt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56B-2C14-4C31-94C4-2650401737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divisione e revisio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a stesur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a piccola commissione (4-6 membri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a bozza concordata con il 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sentata ad una assemblea di genitori per acquisire pareri e proposte di modific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pprovata dal Consiglio di Istitu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visione annual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rtendo dalla consultazione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solo di coloro che hanno firmato la stesura vigen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753-FFC8-49CF-8F9D-CAC57782C2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tto educativo di corresponsabilit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Verdana"/>
              </a:rPr>
              <a:t>Natura giuridica del patto di corresponsabilit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La natura “</a:t>
            </a:r>
            <a:r>
              <a:rPr b="1" lang="it-IT" sz="2400" spc="-1" strike="noStrike">
                <a:solidFill>
                  <a:srgbClr val="006699"/>
                </a:solidFill>
                <a:latin typeface="Verdana"/>
              </a:rPr>
              <a:t>contrattuale</a:t>
            </a: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” del Patto sembrerebb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desumers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dall’uso del termine “</a:t>
            </a:r>
            <a:r>
              <a:rPr b="0" i="1" lang="it-IT" sz="2400" spc="-1" strike="noStrike">
                <a:solidFill>
                  <a:srgbClr val="006699"/>
                </a:solidFill>
                <a:latin typeface="Verdana"/>
              </a:rPr>
              <a:t>patto</a:t>
            </a: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dalla necessità di richiederne la sottoscrizione da parte di ciascuno studente/genitore (rapporto </a:t>
            </a:r>
            <a:r>
              <a:rPr b="0" i="1" lang="it-IT" sz="2400" spc="-1" strike="noStrike">
                <a:solidFill>
                  <a:srgbClr val="006699"/>
                </a:solidFill>
                <a:latin typeface="Verdana"/>
              </a:rPr>
              <a:t>one to one</a:t>
            </a: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È richiamabile l’art. 1, comma 1 bis della L. 241/90 </a:t>
            </a:r>
            <a:r>
              <a:rPr b="0" i="1" lang="it-IT" sz="2400" spc="-1" strike="noStrike">
                <a:solidFill>
                  <a:srgbClr val="006699"/>
                </a:solidFill>
                <a:latin typeface="Verdana"/>
              </a:rPr>
              <a:t>(La pubblica amministrazione, nell'adozione di atti di natura non autoritativa, agisce secondo le norme di diritto privato, salvo che la legge disponga diversament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8E6-D45A-4924-AE2F-1983188F6B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. Nell'ambito delle prime due settimane di inizio delle attività didattiche, ciascuna istituzione scolastica pone in essere le iniziative più idonee per le opportune attività di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accoglienz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dei nuovi studenti, per la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presentazio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e la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ondivision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llo Statuto delle studentesse e degli studenti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l Piano dell'offerta formati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i Regolamenti di istitu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l Patto educativo di corresponsabilità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tto educativo di corresponsabilit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CA8-8E85-46ED-A30C-7D844A460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atura e limiti del patt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’idea che viene da lontan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 fa in molti paes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è figlia di una cultura diver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ibero arbitrio connesso a responsabilit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è legata a precisi vincol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caso di mancata firm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caso di violazione successiva alla firm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9D2-4219-4965-BE55-C9F2A4E27A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tto </a:t>
            </a:r>
            <a:r>
              <a:rPr b="0" i="1" lang="en-US" sz="4400" spc="-1" strike="noStrike">
                <a:solidFill>
                  <a:srgbClr val="006666"/>
                </a:solidFill>
                <a:latin typeface="Verdana"/>
              </a:rPr>
              <a:t>vs.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regolament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Verdana"/>
              </a:rPr>
              <a:t>il patto è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Verdana"/>
              </a:rPr>
              <a:t>un atto di diritto priva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Verdana"/>
              </a:rPr>
              <a:t>un momento di condivisione educati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Verdana"/>
              </a:rPr>
              <a:t>il regolamento è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Verdana"/>
              </a:rPr>
              <a:t>un atto di diritto pubblic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Verdana"/>
              </a:rPr>
              <a:t>l’espressione di un potere autoritativ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Verdana"/>
              </a:rPr>
              <a:t>eppure </a:t>
            </a:r>
            <a:r>
              <a:rPr b="0" i="1" lang="it-IT" sz="3200" spc="-1" strike="noStrike">
                <a:solidFill>
                  <a:srgbClr val="006699"/>
                </a:solidFill>
                <a:latin typeface="Verdana"/>
              </a:rPr>
              <a:t>coesistono</a:t>
            </a:r>
            <a:r>
              <a:rPr b="0" lang="it-IT" sz="3200" spc="-1" strike="noStrike">
                <a:solidFill>
                  <a:srgbClr val="006699"/>
                </a:solidFill>
                <a:latin typeface="Verdana"/>
              </a:rPr>
              <a:t> non senza qualche problema giuridic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361-B464-4516-8D26-5947E55C57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ttoscrizio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è richiesta la sottoscrizione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sa succede in caso di rifiuto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a previsto nel regolamento e non nel patto (se vi è una qualche forma di penalizzazion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A73-744F-4A60-BA08-02D86D7B78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tenuti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qualche ipotes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5573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egno alla comunicazione reciproc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egno dei genitori a seguire i progressi scolastici dei figl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egno a collaborare con la scuola nella modifica dei comportamenti in contrasto con l’etica della scuola (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da individuare nel regolamento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egno della scuola a coinvolgere le famiglie nella definizione dei contenuti e delle regol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ichiarazione della famiglia di aver conoscenza del regolamento disciplinare e del piano dell’offer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D9A-548C-43BF-B8F0-62E0665AD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tenuti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uggeriment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in particolare, la famiglia si impegna a far rispettare ai figli le regol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i cellulari e videofonin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</a:rPr>
              <a:t>sull’uso della rete informatica di istituto e di Internet stabilite dalla Politica di Uso Accettabile adottata dall’istitut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 fum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la puntualità ed assiduità alle lezion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l’abbigliament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 risarcimento collettivo dei dann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 rispetto delle perso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 rispetto dell’ambiente scolastic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sul comportamento durante i viaggi di istruzio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7B-6741-45E2-9CC0-0C37B50C9B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resentazio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una riunione pubbli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nendolo distinto dal regolamen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fatizzandone l’aspetto educativ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hiarendo che esso si colloca come strumento di sussidiarietà / partecipazion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hiarendo che la normativa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unilateral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rimane comunque effica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hiarendo che il patto tempera la rigidità esclusiva del vincolo disciplinare anziché aggravarl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DFE-17DD-45FD-8D9D-D129A4A76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lizzazio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acquisire la firma (o il rifiuto di firmare) non oltre la conferma dell’iscrizion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prevedere un modulo di informativa circa le eventuali conseguenze del rifiu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 la possibilità di essere esclusi da attività extrascolastich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99"/>
                </a:solidFill>
                <a:latin typeface="Verdana"/>
              </a:rPr>
              <a:t>esempio: </a:t>
            </a:r>
            <a:r>
              <a:rPr b="0" lang="it-IT" sz="2400" spc="-1" strike="noStrike">
                <a:solidFill>
                  <a:srgbClr val="006699"/>
                </a:solidFill>
                <a:latin typeface="Verdana"/>
              </a:rPr>
              <a:t>l’aggravante della premeditazione presunta in caso di eventuali mancanz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1800360" cy="620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516720" y="6310440"/>
            <a:ext cx="1849320" cy="3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5BC-8868-4B83-A84B-0DD9B3725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3:45:18Z</dcterms:created>
  <dc:creator>fassorra</dc:creator>
  <dc:description/>
  <dc:language>en-US</dc:language>
  <cp:lastModifiedBy>ff</cp:lastModifiedBy>
  <dcterms:modified xsi:type="dcterms:W3CDTF">2010-05-16T17:38:09Z</dcterms:modified>
  <cp:revision>79</cp:revision>
  <dc:subject/>
  <dc:title>Diapositiva 1</dc:title>
</cp:coreProperties>
</file>