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CE55-720C-4558-A91F-E56E2B93091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vviamente qui andranno inseri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F82A-630D-4C3B-80F0-28822B726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80010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54600"/>
            <a:ext cx="80010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94ED-7764-44CE-8608-D21CA0B2F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5460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5460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9704-D1D3-4AA3-8083-C6CC93BF4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80036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80036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5460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5460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5460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1B8C-16A0-4C0B-8C8C-F147101E3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800360"/>
            <a:ext cx="800100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80010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3904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800360"/>
            <a:ext cx="3904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1137960"/>
            <a:ext cx="80010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800360"/>
            <a:ext cx="3904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5460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800360"/>
            <a:ext cx="800100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6E03-1616-44FC-BE6A-3D449783A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3904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5460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54600"/>
            <a:ext cx="80010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80010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54600"/>
            <a:ext cx="80010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5460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5460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80036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80036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5460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5460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54600"/>
            <a:ext cx="2576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80010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E508-A52A-468E-9756-26DAFB0F4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3904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800360"/>
            <a:ext cx="3904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B2CF-D0E5-457C-9DEC-A7E6FC920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031C-56E1-4278-9FE0-C4E4A2322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1137960"/>
            <a:ext cx="80010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D18D-378F-4A53-BA6C-AA29E57B0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800360"/>
            <a:ext cx="3904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5460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3B5D-3A51-4802-B39F-863895853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3904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5460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61F3-AA08-4CA7-8E35-15B641231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800360"/>
            <a:ext cx="39042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54600"/>
            <a:ext cx="80010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C03A-9557-4AB0-B693-9F9813B8B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1137960"/>
            <a:ext cx="8001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800360"/>
            <a:ext cx="80010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3366ff"/>
              </a:buClr>
              <a:buSzPct val="6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604880"/>
            <a:ext cx="7956720" cy="7632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ff"/>
          </a:solidFill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5950080"/>
            <a:ext cx="792468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81160" y="3024360"/>
            <a:ext cx="306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81160" y="302436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6480"/>
            <a:ext cx="8064720" cy="641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>
              <a:lnSpc>
                <a:spcPct val="100000"/>
              </a:lnSpc>
              <a:tabLst>
                <a:tab algn="l" pos="0"/>
                <a:tab algn="r" pos="771696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Verdana"/>
              </a:rPr>
              <a:t>Progetto Sicurezza O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tabLst>
                <a:tab algn="l" pos="0"/>
                <a:tab algn="r" pos="771696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ORTAMENTI ON LINE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Scheda tematica per l’insegn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tabLst>
                <a:tab algn="l" pos="0"/>
                <a:tab algn="r" pos="771696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Verdana"/>
              </a:rPr>
              <a:t>Scuola secondaria I g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641520"/>
            <a:ext cx="80647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3492000" y="6165720"/>
            <a:ext cx="230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66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66ff"/>
                </a:solidFill>
                <a:latin typeface="Verdana"/>
              </a:rPr>
              <a:t>- </a:t>
            </a:r>
            <a:fld id="{ABD45E60-6474-4C93-90F2-8CBD7BD35553}" type="slidenum">
              <a:rPr b="0" lang="it-IT" sz="1400" spc="-1" strike="noStrike">
                <a:solidFill>
                  <a:srgbClr val="3366ff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3366ff"/>
                </a:solidFill>
                <a:latin typeface="Verdana"/>
              </a:rPr>
              <a:t> - </a:t>
            </a:r>
            <a:br>
              <a:rPr sz="1400"/>
            </a:br>
            <a:r>
              <a:rPr b="0" lang="it-IT" sz="800" spc="-1" strike="noStrike">
                <a:solidFill>
                  <a:srgbClr val="3366ff"/>
                </a:solidFill>
                <a:latin typeface="Verdana"/>
              </a:rPr>
              <a:t>4-scheda tematica-I grado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11280" y="5987880"/>
            <a:ext cx="1800000" cy="6098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7956720" y="6022800"/>
            <a:ext cx="5428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982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ff"/>
          </a:solidFill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499"/>
              </a:spcBef>
              <a:buClr>
                <a:srgbClr val="3366ff"/>
              </a:buClr>
              <a:buSzPct val="60000"/>
              <a:buFont typeface="Wingding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lagiarism.phys.virginia.edu/possibilities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t.wikipedia.org/wiki/Netiquette" TargetMode="External"/><Relationship Id="rId2" Type="http://schemas.openxmlformats.org/officeDocument/2006/relationships/hyperlink" Target="http://www.caesarnet.it/leggi/netiquette.htm" TargetMode="External"/><Relationship Id="rId3" Type="http://schemas.openxmlformats.org/officeDocument/2006/relationships/hyperlink" Target="http://www.caesarnet.it/leggi/netiquette.htm" TargetMode="External"/><Relationship Id="rId4" Type="http://schemas.openxmlformats.org/officeDocument/2006/relationships/hyperlink" Target="http://www.inferentia.it/netiquette/ten.html" TargetMode="External"/><Relationship Id="rId5" Type="http://schemas.openxmlformats.org/officeDocument/2006/relationships/hyperlink" Target="http://www.inferentia.it/netiquette/ten.html" TargetMode="External"/><Relationship Id="rId6" Type="http://schemas.openxmlformats.org/officeDocument/2006/relationships/hyperlink" Target="http://www.inferentia.it/netiquette/ten.html" TargetMode="External"/><Relationship Id="rId7" Type="http://schemas.openxmlformats.org/officeDocument/2006/relationships/hyperlink" Target="http://www.inferentia.it/netiquette/ten.html" TargetMode="External"/><Relationship Id="rId8" Type="http://schemas.openxmlformats.org/officeDocument/2006/relationships/hyperlink" Target="http://secondlife.com/" TargetMode="External"/><Relationship Id="rId9" Type="http://schemas.openxmlformats.org/officeDocument/2006/relationships/hyperlink" Target="http://www.activewords.com/" TargetMode="External"/><Relationship Id="rId10" Type="http://schemas.openxmlformats.org/officeDocument/2006/relationships/hyperlink" Target="http://www.nuovita.com/" TargetMode="External"/><Relationship Id="rId11" Type="http://schemas.openxmlformats.org/officeDocument/2006/relationships/hyperlink" Target="http://it.encarta.msn.com/artcenter_/browse.html" TargetMode="External"/><Relationship Id="rId12" Type="http://schemas.openxmlformats.org/officeDocument/2006/relationships/hyperlink" Target="http://it.wikipedia.org/wiki/Opensource" TargetMode="External"/><Relationship Id="rId13" Type="http://schemas.openxmlformats.org/officeDocument/2006/relationships/hyperlink" Target="http://www.creativecommons.it/" TargetMode="External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crosoft.com/italy/security/default.mspx" TargetMode="External"/><Relationship Id="rId2" Type="http://schemas.openxmlformats.org/officeDocument/2006/relationships/hyperlink" Target="http://www.microsoft.com/italy/security/default.mspx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montailbullo.it/bullismo.php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ff"/>
                </a:solidFill>
                <a:latin typeface="Verdana"/>
              </a:rPr>
              <a:t>LA RETE, TERRA DI NESSUNO?</a:t>
            </a:r>
            <a:endParaRPr b="1" lang="en-US" sz="32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46360" y="3156120"/>
            <a:ext cx="7166520" cy="1624680"/>
          </a:xfrm>
          <a:prstGeom prst="rect">
            <a:avLst/>
          </a:prstGeom>
          <a:solidFill>
            <a:srgbClr val="99ccff"/>
          </a:solidFill>
          <a:ln w="28440">
            <a:solidFill>
              <a:srgbClr val="3366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VILI ON LINE: LA NETIQUETTE, LA GESTUALI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À DELLE EMOTICONS, IL CYBERBULLISMO E LA CULTURA DELLA CONDIVISIONE NEL WEB 2.0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6480"/>
            <a:ext cx="806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>
              <a:lnSpc>
                <a:spcPct val="100000"/>
              </a:lnSpc>
              <a:tabLst>
                <a:tab algn="l" pos="0"/>
                <a:tab algn="r" pos="771696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66ff"/>
                </a:solidFill>
                <a:latin typeface="Verdana"/>
              </a:rPr>
              <a:t>Progetto Sicurezza O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tabLst>
                <a:tab algn="l" pos="0"/>
                <a:tab algn="r" pos="771696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Verdana"/>
              </a:rPr>
              <a:t>COMPORTAMENTI ON LINE - Scheda tematica per l’insegn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tabLst>
                <a:tab algn="l" pos="0"/>
                <a:tab algn="r" pos="771696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66ff"/>
                </a:solidFill>
                <a:latin typeface="Verdana"/>
              </a:rPr>
              <a:t>Scuola secondaria I g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738920" y="260280"/>
            <a:ext cx="1154160" cy="207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5987880"/>
            <a:ext cx="180000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956720" y="6022800"/>
            <a:ext cx="5428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3600" y="1137960"/>
            <a:ext cx="69991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ff"/>
                </a:solidFill>
                <a:latin typeface="Verdana"/>
              </a:rPr>
              <a:t>Strategie contro il cyberbullismo</a:t>
            </a: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antenere un comportamento riservato (evitare esibizioni inutili di proprie foto, di dati sensibili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mpostare nickname generici, in cui non ci sia riferimento a età, genere, abitazi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on confidare in chat o forum dettagli della vita priva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on avere a tua volta comportamenti irritanti, rabbiosi, o che possano provocare rincrescimen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gnora messaggi meschini nei confronti tuoi o dei tuoi amic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egistra i messaggi che ti offendono, potrebbero servirti per eventuali denu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ostra i messaggi ai genitori o agli adulti che ti assiston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ola il bullo, ma non rimanere solo di fronte al cyberbullo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4360" y="863640"/>
            <a:ext cx="701640" cy="69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B734-E443-4054-A612-10F7AAF66C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9480" y="1137960"/>
            <a:ext cx="5149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Verdana"/>
              </a:rPr>
              <a:t>Condivisione, non plagio</a:t>
            </a: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3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condivisione, lo scambio, il confronto: la Rete permette e favorisce lo scambio di conoscenze, di beni, di esperienz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zione in Rete: vi sono intere Community basate sulla collaborazione on line, forse le hai già speriment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pettare il lavoro e l’intelligenza altrui: il lavoro altrui vale quanto il tuo, e consente di vivere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iare non è collaborare: è facile fare i compiti con un copia-incolla, ma non è gius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entire anche agli altri di continuare a produrre. Copiando software scoraggi ricerca e produzion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i di plagio in Rete e loro repressione: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plagiarism.phys.virginia.edu/possibilities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27200" y="887400"/>
            <a:ext cx="64764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EEF9-91C2-498A-9F90-F4CA9416BB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9840" y="1137960"/>
            <a:ext cx="50068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ff"/>
                </a:solidFill>
                <a:latin typeface="Verdana"/>
              </a:rPr>
              <a:t>Che cos’è l’open source</a:t>
            </a: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: licenza su software, solitamente gratuito, che permette a chiunque di modificare il codice sorgente (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 di un program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cuni aspetti del gratui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3366ff"/>
              </a:buClr>
              <a:buSzPct val="60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Free: programmi semplicemente gratuiti, senza riferimento alla possibilità di modifi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3366ff"/>
              </a:buClr>
              <a:buSzPct val="60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GPL: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General Public Licens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la licenza prevede la fornitura del codice e la possibilità di modifica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3366ff"/>
              </a:buClr>
              <a:buSzPct val="60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hareware: programmi completi o no, in prova gratuit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Creative Common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: gli autori consentono la libera distribuzione di software, ma soprattutto di contenuti, conservandone la paternità intellettua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93720" y="884160"/>
            <a:ext cx="70488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7DC8-0D1F-468A-9E44-7D5F8794F8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137960"/>
            <a:ext cx="6899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Verdana"/>
              </a:rPr>
              <a:t>Riconosciamo il Web 2.0</a:t>
            </a: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800360"/>
            <a:ext cx="804384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Web 2.0 sta ad indicare un nuovo modo di fruire del Web, non più come semplici utenti, ma come co-autor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’open source - già diffusa in ambito informatico - sta crescendo nel Web: nuove tecnologie danno nuove possibilità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plicativi, piattaforme, spazi, sono sempre più spesso fornite a titolo gratuito, e ciascun utente li può utilizzare in modo crea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Nascono così siti, blog, wiki, video che possono essere fruiti in modo nuovo, incorporati in altri oggetti, modificati, ripubblicati senza infrangere alcuna licenz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 tale ottica, sempre più persone condividono anche la propria connessione senza fi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884160"/>
            <a:ext cx="70488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C89C-2356-411C-8464-1312AD78F3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37960"/>
            <a:ext cx="6667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Verdana"/>
              </a:rPr>
              <a:t>Documentiamoci</a:t>
            </a: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80010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a netiquette: i link sulla Ret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it.wikipedia.org/wiki/Netiquet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336699"/>
                </a:solidFill>
                <a:uFillTx/>
                <a:latin typeface="Lucida Grande"/>
                <a:hlinkClick r:id="rId2"/>
              </a:rPr>
              <a:t>http://www.caesarnet.it/leggi/</a:t>
            </a:r>
            <a:r>
              <a:rPr b="0" lang="it-IT" sz="1600" spc="-1" strike="noStrike" u="sng">
                <a:solidFill>
                  <a:srgbClr val="336699"/>
                </a:solidFill>
                <a:uFillTx/>
                <a:latin typeface="Lucida Grande"/>
                <a:hlinkClick r:id="rId3"/>
              </a:rPr>
              <a:t>netiquette.h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336699"/>
                </a:solidFill>
                <a:uFillTx/>
                <a:latin typeface="Lucida Grande"/>
                <a:hlinkClick r:id="rId4"/>
              </a:rPr>
              <a:t>http://www.inferentia.it/</a:t>
            </a:r>
            <a:r>
              <a:rPr b="0" lang="it-IT" sz="1600" spc="-1" strike="noStrike" u="sng">
                <a:solidFill>
                  <a:srgbClr val="336699"/>
                </a:solidFill>
                <a:uFillTx/>
                <a:latin typeface="Lucida Grande"/>
                <a:hlinkClick r:id="rId5"/>
              </a:rPr>
              <a:t>netiquette</a:t>
            </a:r>
            <a:r>
              <a:rPr b="0" lang="it-IT" sz="1600" spc="-1" strike="noStrike" u="sng">
                <a:solidFill>
                  <a:srgbClr val="336699"/>
                </a:solidFill>
                <a:uFillTx/>
                <a:latin typeface="Lucida Grande"/>
                <a:hlinkClick r:id="rId6"/>
              </a:rPr>
              <a:t>/</a:t>
            </a:r>
            <a:r>
              <a:rPr b="0" lang="it-IT" sz="1600" spc="-1" strike="noStrike" u="sng">
                <a:solidFill>
                  <a:srgbClr val="336699"/>
                </a:solidFill>
                <a:uFillTx/>
                <a:latin typeface="Lucida Grande"/>
                <a:hlinkClick r:id="rId7"/>
              </a:rPr>
              <a:t>ten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ltri ambienti virtual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econd Life - </a:t>
            </a:r>
            <a:r>
              <a:rPr b="0" lang="it-IT" sz="1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secondlife.com/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ctiveWords - </a:t>
            </a:r>
            <a:r>
              <a:rPr b="0" lang="it-IT" sz="16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activewords.com/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Nuovita - </a:t>
            </a:r>
            <a:r>
              <a:rPr b="0" lang="it-IT" sz="16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http://www.nuovita.com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Fonti, Documentazione e Open Sourc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Encarta: </a:t>
            </a:r>
            <a:r>
              <a:rPr b="0" lang="it-IT" sz="16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tp://it.encarta.msn.com/artcenter_/browse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Wikipedia: </a:t>
            </a:r>
            <a:r>
              <a:rPr b="0" lang="it-IT" sz="16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http://it.wikipedia.org/wiki/Open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cenza creative commons: </a:t>
            </a:r>
            <a:r>
              <a:rPr b="0" lang="it-IT" sz="16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http://www.creativecommons.it/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4"/>
          <a:stretch/>
        </p:blipFill>
        <p:spPr>
          <a:xfrm>
            <a:off x="684360" y="879480"/>
            <a:ext cx="70488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389A-D7DC-41DB-8817-326CB75E67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10857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80010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microsoft.com/</a:t>
            </a:r>
            <a:r>
              <a:rPr b="0" lang="en-GB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italy/security/default.msp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www.microsoft.com/italy/mscorp/twc/security/default.msp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www.sicuramenteweb.i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www.ilwebperamico.i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www.smontailbullo.i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www.poliziadistato.it/pds/informatica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www.commissariatodips.it/stanze.php?strparent=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www.lionsinterneteminori.org/default.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www.ilfiltro.i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1138320"/>
            <a:ext cx="6667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ff"/>
                </a:solidFill>
                <a:latin typeface="Verdana"/>
              </a:rPr>
              <a:t>Link ut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84360" y="879480"/>
            <a:ext cx="70488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CB3A-0262-4EBE-B674-2E8F0478E0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1137960"/>
            <a:ext cx="8001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Verdana"/>
              </a:rPr>
              <a:t>Di cosa parleremo</a:t>
            </a: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80010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buone maniere: la netiquette, regole del buon cyber-vive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yberspazio e corpo: emoticon e gestualità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yberbullismo: una Rete per sopraffare gli altri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divisione, non plag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pen source: una scelta che espande la Re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386B-63B5-417F-A3ED-4182C19064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640" y="1125000"/>
            <a:ext cx="47181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ff"/>
                </a:solidFill>
                <a:latin typeface="Verdana"/>
              </a:rPr>
              <a:t>La netiquette</a:t>
            </a: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71010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pesso parlando di Internet si ha la sensazione di visitare una “terra di nessuno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 virtuale, i rapporti sono più complessi, e occorre una maggiore dose di buona educazi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nche in Rete va rispettato il prossim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nche in Rete va rispettata la proprietà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obiettivo è di vivere meglio tutt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netiquette è una </a:t>
            </a: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raccolta di regole che disciplinano il comportamento degli utenti di Internet nel rapportarsi agli altri utenti attraverso risorse quali newsgroup, mailing list, forum o e-mail in gene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parola “netiquette” deriva dalla contrazione del vocabolo inglese </a:t>
            </a: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net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Rete) e quello francese </a:t>
            </a: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étiquett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buona educazion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684360" cy="67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D13C-4B47-42F9-9F06-993C00EA8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1125000"/>
            <a:ext cx="4896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ff"/>
                </a:solidFill>
                <a:latin typeface="Verdana"/>
              </a:rPr>
              <a:t>La netiquette</a:t>
            </a: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640" y="1800360"/>
            <a:ext cx="674208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i chiaro, non dare niente per sconta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rimiti con proprietà e correttezz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a il linguaggio a seconda del contes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i breve, la lettura sullo schermo è fatico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rca di essere gradevo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egli bene quello che vuoi comunic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edi l’autorizzazione prima d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oltra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un’e-mail ad altri destinatar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96960" y="793800"/>
            <a:ext cx="720720" cy="71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10A0-B940-4075-B39C-23EDB4DDD9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360" y="1137960"/>
            <a:ext cx="6595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ff"/>
                </a:solidFill>
                <a:latin typeface="Verdana"/>
              </a:rPr>
              <a:t>La netiquette</a:t>
            </a: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2041560"/>
            <a:ext cx="80010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corda che non passi inosserva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petta gli altr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petta le legg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ta il lavoro degli altr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a in modo appropriato le mailing li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 spedire SP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 dare seguito alle lettere di S. Anton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 replicare agli attacchi in modo villa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865080"/>
            <a:ext cx="70488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CBE7-A793-476C-98A6-9EAC12BA55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1068480"/>
            <a:ext cx="7596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Verdana"/>
              </a:rPr>
              <a:t>Cyberspazio e corpo</a:t>
            </a:r>
            <a:endParaRPr b="1" lang="en-US" sz="24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comunicazione tra le persone è costituita non solo da un contenuto ma anche dagli aspetti emotivi e relazionali che tra esse si sviluppa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averso gli usuali incontri in presenza tra persone, si svolge una comunicazione di tipo verbale e una comunicazione di tipo non verbale, fatta di gestualità, posture e comportamen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Rete la comunicazione è in gran parte ancora di tipo verbale, e questo è dovuto principalmente all’inadeguatezza della tecnologia nella trasmissione e nella ricezione dei messaggi corporei, anche se si stanno facendo passi da gigante in questo camp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9720" y="841320"/>
            <a:ext cx="70488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DC4E-8507-4B3C-9EB3-1AE65AD71B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67341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Verdana"/>
              </a:rPr>
              <a:t>Cyberspazio e corpo: il ruolo delle emoticon</a:t>
            </a:r>
            <a:endParaRPr b="1" lang="en-US" sz="24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800360"/>
            <a:ext cx="81090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i sono però già dei “surrogati” del corpo che possiamo utilizzare in Rete: le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emoticon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smiley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 Le principali son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cc"/>
                </a:solidFill>
                <a:latin typeface="Verdana"/>
              </a:rPr>
              <a:t>:-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llegro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cc"/>
                </a:solidFill>
                <a:latin typeface="Verdana"/>
              </a:rPr>
              <a:t>:-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riste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cc"/>
                </a:solidFill>
                <a:latin typeface="Verdana"/>
              </a:rPr>
              <a:t>:-D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isatona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cc"/>
                </a:solidFill>
                <a:latin typeface="Verdana"/>
              </a:rPr>
              <a:t>:-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rpresa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cc"/>
                </a:solidFill>
                <a:latin typeface="Verdana"/>
              </a:rPr>
              <a:t>;-)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mmicco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64764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5F69-E872-488C-B0B1-D89F3C6159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e emoticon rappresentano il nostro “esserci” fisicamente in Internet: è importante utilizzarle avendo presente il loro significato e le loro potenzialità (un’emoticon potrebbe essere percepita come un insulto, ad esempi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li aspetti corporei e gestuali assumono ancora più importanza in ambienti virtuali, a volte tridimensionali, se le persone usano un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avatar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l’identità virtuale): una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seconda vit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609480" cy="60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62160" y="1022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066680"/>
            <a:ext cx="6734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Verdana"/>
              </a:rPr>
              <a:t>Cyberspazio e corpo: il ruolo delle emot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7524-6654-4246-8966-771A3BA3D9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9480" y="1137960"/>
            <a:ext cx="58705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ff"/>
                </a:solidFill>
                <a:latin typeface="Verdana"/>
              </a:rPr>
              <a:t>Cos’è il cyberbullismo</a:t>
            </a:r>
            <a:endParaRPr b="1" lang="en-US" sz="28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yberbullismo connota l’attività di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ggressione gratuita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attraverso strumenti telematici o in Rete (chat, forum, e-mail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il bullismo tradizionale, confronta: ”Il termine italiano "bullismo" è la traduzione letterale di "bullying", parola che caratterizza il fenomeno delle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prepotenze in contesto di grupp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it-IT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smontailbullo.it/bullismo.php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yberbullismo si può manifestare con comportamento villano, prevaricatore, minaccioso, insult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3366ff"/>
              </a:buClr>
              <a:buSzPct val="65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 frequente si avvale anche dell’anonimato, consentito dalla Ret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3720" y="884160"/>
            <a:ext cx="70488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C345-B625-48A9-9387-B35873A525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6:54:04Z</dcterms:created>
  <dc:creator>Romolo Pranzetti</dc:creator>
  <dc:description/>
  <dc:language>en-US</dc:language>
  <cp:lastModifiedBy>anp</cp:lastModifiedBy>
  <cp:lastPrinted>2007-02-09T10:34:01Z</cp:lastPrinted>
  <dcterms:modified xsi:type="dcterms:W3CDTF">2010-05-18T07:07:36Z</dcterms:modified>
  <cp:revision>171</cp:revision>
  <dc:subject/>
  <dc:title>Caccia al virus!</dc:title>
</cp:coreProperties>
</file>